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D86-FF20-4816-8225-B992B625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8C9-6A2E-4033-AD81-4FBAE431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14D-D975-43DE-B0D2-45CA1609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965-621C-4DD1-ACA2-ACFD3ED6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24F-C525-461D-914C-69DAF1EE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F48-D819-499C-B7F2-D3501731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88D-BB72-4688-BD1F-6F797D91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021-8627-4D58-B06D-1AFC8D80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121-306E-4DBA-8ED1-CE4C9A9C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130-B1C3-4241-9B6B-0FA70C1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234-FF80-4215-BBCE-A959DE1B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E78-DD5C-446E-B920-DAADA221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F85B-6D2A-47F4-B5D5-5D1CD13A6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11080" y="1693800"/>
            <a:ext cx="5053320" cy="2147760"/>
            <a:chOff x="1711080" y="1693800"/>
            <a:chExt cx="5053320" cy="2147760"/>
          </a:xfrm>
        </p:grpSpPr>
        <p:sp>
          <p:nvSpPr>
            <p:cNvPr id="42" name=""/>
            <p:cNvSpPr/>
            <p:nvPr/>
          </p:nvSpPr>
          <p:spPr>
            <a:xfrm>
              <a:off x="1711080" y="1693800"/>
              <a:ext cx="14104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884960" y="3198960"/>
              <a:ext cx="10432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101840" y="2579760"/>
              <a:ext cx="14104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24080" y="2028960"/>
              <a:ext cx="95256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2943360" y="3076200"/>
              <a:ext cx="113328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33920" y="291456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86440" y="270360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kay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800360" y="1509840"/>
            <a:ext cx="5093280" cy="3625560"/>
            <a:chOff x="1800360" y="1509840"/>
            <a:chExt cx="5093280" cy="3625560"/>
          </a:xfrm>
        </p:grpSpPr>
        <p:sp>
          <p:nvSpPr>
            <p:cNvPr id="104" name=""/>
            <p:cNvSpPr/>
            <p:nvPr/>
          </p:nvSpPr>
          <p:spPr>
            <a:xfrm>
              <a:off x="3452040" y="1509840"/>
              <a:ext cx="20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 Langu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83880" y="2841480"/>
              <a:ext cx="25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ammar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structure, form, synta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74320" y="2833560"/>
              <a:ext cx="21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ule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ata relationship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1800" y="3465360"/>
              <a:ext cx="0" cy="12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45640" y="474984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lax 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125440" y="3494160"/>
              <a:ext cx="6966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00360" y="4154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T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64080" y="3479760"/>
              <a:ext cx="66672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37720" y="4183200"/>
              <a:ext cx="15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ML Sch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51440" y="3449520"/>
              <a:ext cx="0" cy="12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57360" y="476712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170160" y="1836720"/>
              <a:ext cx="101592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95920" y="1822320"/>
              <a:ext cx="1060200" cy="10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45960" y="792000"/>
            <a:ext cx="4902480" cy="3481560"/>
            <a:chOff x="345960" y="792000"/>
            <a:chExt cx="4902480" cy="34815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0" t="0" r="51581" b="55383"/>
            <a:stretch/>
          </p:blipFill>
          <p:spPr>
            <a:xfrm>
              <a:off x="345960" y="792000"/>
              <a:ext cx="472284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flipV="1">
              <a:off x="3984480" y="1622160"/>
              <a:ext cx="208080" cy="8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33040" y="2389320"/>
              <a:ext cx="17154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th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validate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ML doc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ainst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8080" y="1131840"/>
            <a:ext cx="560844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933560" y="2324160"/>
            <a:ext cx="4486320" cy="3085920"/>
            <a:chOff x="1933560" y="2324160"/>
            <a:chExt cx="4486320" cy="3085920"/>
          </a:xfrm>
        </p:grpSpPr>
        <p:sp>
          <p:nvSpPr>
            <p:cNvPr id="55" name=""/>
            <p:cNvSpPr/>
            <p:nvPr/>
          </p:nvSpPr>
          <p:spPr>
            <a:xfrm>
              <a:off x="1933560" y="2324160"/>
              <a:ext cx="647640" cy="5713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62240" y="2666880"/>
              <a:ext cx="990720" cy="119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81640" y="2914560"/>
              <a:ext cx="94284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29080" y="4181400"/>
              <a:ext cx="1333440" cy="5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28880" y="4781520"/>
              <a:ext cx="1333440" cy="6285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2590920"/>
              <a:ext cx="56196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62320" y="3267000"/>
              <a:ext cx="12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4480" y="2895480"/>
              <a:ext cx="457200" cy="304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229000" y="3619440"/>
              <a:ext cx="6188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4162320" y="4762440"/>
              <a:ext cx="5335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96000" y="3619080"/>
              <a:ext cx="6188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24360" y="3781440"/>
              <a:ext cx="457200" cy="304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53160" y="369108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62280" y="2476440"/>
              <a:ext cx="181080" cy="21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57680" y="2610000"/>
              <a:ext cx="181080" cy="218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38800" y="3809880"/>
              <a:ext cx="181080" cy="21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05200" y="3705120"/>
              <a:ext cx="181080" cy="21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10000" y="4952880"/>
              <a:ext cx="181080" cy="21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886040" y="1771560"/>
            <a:ext cx="6124320" cy="1809720"/>
            <a:chOff x="1886040" y="1771560"/>
            <a:chExt cx="6124320" cy="1809720"/>
          </a:xfrm>
        </p:grpSpPr>
        <p:sp>
          <p:nvSpPr>
            <p:cNvPr id="74" name=""/>
            <p:cNvSpPr/>
            <p:nvPr/>
          </p:nvSpPr>
          <p:spPr>
            <a:xfrm>
              <a:off x="1886040" y="1771560"/>
              <a:ext cx="1600200" cy="676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ument.s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86040" y="2905200"/>
              <a:ext cx="1600200" cy="67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eleton1-5.xs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90920" y="2133720"/>
              <a:ext cx="123840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S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10160" y="2314440"/>
              <a:ext cx="1600200" cy="676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tor.xs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76520" y="205740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476520" y="287604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29320" y="2638440"/>
              <a:ext cx="78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86040" y="1771560"/>
            <a:ext cx="1600200" cy="676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86040" y="2905200"/>
            <a:ext cx="1600200" cy="676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.x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90920" y="2133720"/>
            <a:ext cx="12384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76520" y="20574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476520" y="28760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29320" y="26384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86040" y="24652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! (or, er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600120" y="1743120"/>
            <a:ext cx="7904160" cy="3162240"/>
            <a:chOff x="600120" y="1743120"/>
            <a:chExt cx="7904160" cy="3162240"/>
          </a:xfrm>
        </p:grpSpPr>
        <p:sp>
          <p:nvSpPr>
            <p:cNvPr id="89" name=""/>
            <p:cNvSpPr/>
            <p:nvPr/>
          </p:nvSpPr>
          <p:spPr>
            <a:xfrm>
              <a:off x="600120" y="1743120"/>
              <a:ext cx="1600200" cy="67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ument.s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0120" y="2876400"/>
              <a:ext cx="1600200" cy="676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eleton1-5.xs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05000" y="2104920"/>
              <a:ext cx="1238400" cy="10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S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6760" y="2523960"/>
              <a:ext cx="961920" cy="409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idator.xs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90600" y="202896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190600" y="284760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3400" y="2610000"/>
              <a:ext cx="60012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43520" y="3314880"/>
              <a:ext cx="123804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S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47960" y="4229280"/>
              <a:ext cx="1600200" cy="67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ument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438800" y="3962160"/>
              <a:ext cx="50472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81560" y="3828960"/>
              <a:ext cx="78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38280" y="3656160"/>
              <a:ext cx="156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k! (or, erro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2604" t="4291" r="47138" b="52536"/>
          <a:stretch/>
        </p:blipFill>
        <p:spPr>
          <a:xfrm>
            <a:off x="1863720" y="1981080"/>
            <a:ext cx="61279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3398" t="10742" r="37099" b="44276"/>
          <a:stretch/>
        </p:blipFill>
        <p:spPr>
          <a:xfrm>
            <a:off x="816120" y="1965240"/>
            <a:ext cx="72547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21:11:50Z</dcterms:created>
  <dc:creator>Roger L. Costello</dc:creator>
  <dc:description/>
  <dc:language>en-US</dc:language>
  <cp:lastModifiedBy>costello</cp:lastModifiedBy>
  <dcterms:modified xsi:type="dcterms:W3CDTF">2007-06-27T15:11:20Z</dcterms:modified>
  <cp:revision>17</cp:revision>
  <dc:subject/>
  <dc:title>Slide 1</dc:title>
</cp:coreProperties>
</file>