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113C-1F08-49D4-A5E1-665854E90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F6BC-7625-463D-9495-96003BD3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2382-16CF-47A1-BDFA-F7CBCE3FE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4A25-9295-4ADB-844A-E4B29F8FF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7A27-30DB-41B5-984F-CA5CB225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408C-7960-4389-ACBE-10267BBD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1ECD-7C39-4317-B1A0-6EA535A5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4316-6D33-4ED1-B1D2-C6902205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607A-CE9F-41D2-B326-48D1C602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63FA-05D7-4134-8D62-9EDFE2DA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8DA0-4F6F-405F-A88F-9DA0872E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3534-E2F9-4965-927D-DEBC459E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466120" y="63943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2C9B-F49E-4B80-BB1F-35C00B0D5B00}" type="slidenum"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-79560" y="-22860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8c8c8"/>
                </a:solidFill>
                <a:latin typeface="Times New Roman"/>
              </a:rPr>
              <a:t>Copyright </a:t>
            </a:r>
            <a:r>
              <a:rPr b="1" lang="en-US" sz="1000" spc="-1" strike="noStrike">
                <a:solidFill>
                  <a:srgbClr val="c8c8c8"/>
                </a:solidFill>
                <a:latin typeface="Times New Roman"/>
              </a:rPr>
              <a:t>©</a:t>
            </a:r>
            <a:r>
              <a:rPr b="0" lang="en-US" sz="1000" spc="-1" strike="noStrike">
                <a:solidFill>
                  <a:srgbClr val="c8c8c8"/>
                </a:solidFill>
                <a:latin typeface="Times New Roman"/>
              </a:rPr>
              <a:t> [2010].  Roger L. Costello.  All Rights Reserve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axonica.com/" TargetMode="External"/><Relationship Id="rId2" Type="http://schemas.openxmlformats.org/officeDocument/2006/relationships/hyperlink" Target="http://xerces.apache.org/xerces2-j/" TargetMode="Externa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XML Schema 1.1 </a:t>
            </a:r>
            <a:br>
              <a:rPr sz="4400"/>
            </a:b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for Mana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329520" y="5995800"/>
            <a:ext cx="2814480" cy="43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oger L. Costel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http://www.xfron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 December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as permanent stor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5"/>
          <p:cNvGrpSpPr/>
          <p:nvPr/>
        </p:nvGrpSpPr>
        <p:grpSpPr>
          <a:xfrm>
            <a:off x="3576600" y="1693800"/>
            <a:ext cx="1437480" cy="1432440"/>
            <a:chOff x="3576600" y="1693800"/>
            <a:chExt cx="1437480" cy="1432440"/>
          </a:xfrm>
        </p:grpSpPr>
        <p:sp>
          <p:nvSpPr>
            <p:cNvPr id="114" name="Rectangle 6"/>
            <p:cNvSpPr/>
            <p:nvPr/>
          </p:nvSpPr>
          <p:spPr>
            <a:xfrm>
              <a:off x="3576600" y="2141640"/>
              <a:ext cx="460440" cy="56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7"/>
            <p:cNvSpPr/>
            <p:nvPr/>
          </p:nvSpPr>
          <p:spPr>
            <a:xfrm>
              <a:off x="4455000" y="1693800"/>
              <a:ext cx="54936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 Box 8"/>
            <p:cNvSpPr/>
            <p:nvPr/>
          </p:nvSpPr>
          <p:spPr>
            <a:xfrm>
              <a:off x="4464720" y="2203560"/>
              <a:ext cx="54936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9"/>
            <p:cNvSpPr/>
            <p:nvPr/>
          </p:nvSpPr>
          <p:spPr>
            <a:xfrm>
              <a:off x="4459680" y="2727360"/>
              <a:ext cx="54936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10"/>
            <p:cNvSpPr/>
            <p:nvPr/>
          </p:nvSpPr>
          <p:spPr>
            <a:xfrm flipH="1">
              <a:off x="4064040" y="1895400"/>
              <a:ext cx="388800" cy="3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11"/>
            <p:cNvSpPr/>
            <p:nvPr/>
          </p:nvSpPr>
          <p:spPr>
            <a:xfrm flipH="1">
              <a:off x="4049640" y="2401920"/>
              <a:ext cx="38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12"/>
            <p:cNvSpPr/>
            <p:nvPr/>
          </p:nvSpPr>
          <p:spPr>
            <a:xfrm flipH="1" flipV="1">
              <a:off x="4035240" y="2588760"/>
              <a:ext cx="40320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13"/>
          <p:cNvGrpSpPr/>
          <p:nvPr/>
        </p:nvGrpSpPr>
        <p:grpSpPr>
          <a:xfrm>
            <a:off x="997920" y="4892760"/>
            <a:ext cx="6837120" cy="1324080"/>
            <a:chOff x="997920" y="4892760"/>
            <a:chExt cx="6837120" cy="1324080"/>
          </a:xfrm>
        </p:grpSpPr>
        <p:grpSp>
          <p:nvGrpSpPr>
            <p:cNvPr id="122" name="Group 14"/>
            <p:cNvGrpSpPr/>
            <p:nvPr/>
          </p:nvGrpSpPr>
          <p:grpSpPr>
            <a:xfrm>
              <a:off x="2570400" y="5280120"/>
              <a:ext cx="472680" cy="566280"/>
              <a:chOff x="2570400" y="5280120"/>
              <a:chExt cx="472680" cy="566280"/>
            </a:xfrm>
          </p:grpSpPr>
          <p:sp>
            <p:nvSpPr>
              <p:cNvPr id="123" name="Oval 15"/>
              <p:cNvSpPr/>
              <p:nvPr/>
            </p:nvSpPr>
            <p:spPr>
              <a:xfrm>
                <a:off x="2700360" y="5280120"/>
                <a:ext cx="209160" cy="228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16"/>
              <p:cNvSpPr/>
              <p:nvPr/>
            </p:nvSpPr>
            <p:spPr>
              <a:xfrm>
                <a:off x="2806560" y="5503680"/>
                <a:ext cx="0" cy="20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17"/>
              <p:cNvSpPr/>
              <p:nvPr/>
            </p:nvSpPr>
            <p:spPr>
              <a:xfrm flipH="1">
                <a:off x="2708280" y="5707080"/>
                <a:ext cx="97920" cy="12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18"/>
              <p:cNvSpPr/>
              <p:nvPr/>
            </p:nvSpPr>
            <p:spPr>
              <a:xfrm>
                <a:off x="2806560" y="5699160"/>
                <a:ext cx="98280" cy="14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19"/>
              <p:cNvSpPr/>
              <p:nvPr/>
            </p:nvSpPr>
            <p:spPr>
              <a:xfrm flipH="1" flipV="1">
                <a:off x="2570400" y="5494320"/>
                <a:ext cx="236160" cy="9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20"/>
              <p:cNvSpPr/>
              <p:nvPr/>
            </p:nvSpPr>
            <p:spPr>
              <a:xfrm flipV="1">
                <a:off x="2806560" y="5511600"/>
                <a:ext cx="236520" cy="8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Line 21"/>
            <p:cNvSpPr/>
            <p:nvPr/>
          </p:nvSpPr>
          <p:spPr>
            <a:xfrm>
              <a:off x="1627200" y="5546880"/>
              <a:ext cx="85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AutoShape 22"/>
            <p:cNvSpPr/>
            <p:nvPr/>
          </p:nvSpPr>
          <p:spPr>
            <a:xfrm>
              <a:off x="1773360" y="4892760"/>
              <a:ext cx="506520" cy="5317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X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23"/>
            <p:cNvSpPr/>
            <p:nvPr/>
          </p:nvSpPr>
          <p:spPr>
            <a:xfrm>
              <a:off x="3144960" y="5548320"/>
              <a:ext cx="85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AutoShape 24"/>
            <p:cNvSpPr/>
            <p:nvPr/>
          </p:nvSpPr>
          <p:spPr>
            <a:xfrm>
              <a:off x="3291120" y="4894560"/>
              <a:ext cx="506520" cy="5317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3" name="Picture 25" descr="BD21301_"/>
            <p:cNvPicPr/>
            <p:nvPr/>
          </p:nvPicPr>
          <p:blipFill>
            <a:blip r:embed="rId1"/>
            <a:stretch/>
          </p:blipFill>
          <p:spPr>
            <a:xfrm>
              <a:off x="3484800" y="5092920"/>
              <a:ext cx="123840" cy="123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4" name="Group 26"/>
            <p:cNvGrpSpPr/>
            <p:nvPr/>
          </p:nvGrpSpPr>
          <p:grpSpPr>
            <a:xfrm>
              <a:off x="4079520" y="5281560"/>
              <a:ext cx="473760" cy="567000"/>
              <a:chOff x="4079520" y="5281560"/>
              <a:chExt cx="473760" cy="567000"/>
            </a:xfrm>
          </p:grpSpPr>
          <p:sp>
            <p:nvSpPr>
              <p:cNvPr id="135" name="Oval 27"/>
              <p:cNvSpPr/>
              <p:nvPr/>
            </p:nvSpPr>
            <p:spPr>
              <a:xfrm>
                <a:off x="4210200" y="5281560"/>
                <a:ext cx="209520" cy="228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Line 28"/>
              <p:cNvSpPr/>
              <p:nvPr/>
            </p:nvSpPr>
            <p:spPr>
              <a:xfrm>
                <a:off x="4316400" y="5505480"/>
                <a:ext cx="0" cy="20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Line 29"/>
              <p:cNvSpPr/>
              <p:nvPr/>
            </p:nvSpPr>
            <p:spPr>
              <a:xfrm flipH="1">
                <a:off x="4217760" y="5708880"/>
                <a:ext cx="98280" cy="1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Line 30"/>
              <p:cNvSpPr/>
              <p:nvPr/>
            </p:nvSpPr>
            <p:spPr>
              <a:xfrm>
                <a:off x="4316400" y="5700960"/>
                <a:ext cx="98640" cy="14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Line 31"/>
              <p:cNvSpPr/>
              <p:nvPr/>
            </p:nvSpPr>
            <p:spPr>
              <a:xfrm flipH="1" flipV="1">
                <a:off x="4079520" y="5495760"/>
                <a:ext cx="236520" cy="9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Line 32"/>
              <p:cNvSpPr/>
              <p:nvPr/>
            </p:nvSpPr>
            <p:spPr>
              <a:xfrm flipV="1">
                <a:off x="4316400" y="5513040"/>
                <a:ext cx="236880" cy="8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Line 33"/>
            <p:cNvSpPr/>
            <p:nvPr/>
          </p:nvSpPr>
          <p:spPr>
            <a:xfrm>
              <a:off x="4654800" y="5550120"/>
              <a:ext cx="85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AutoShape 34"/>
            <p:cNvSpPr/>
            <p:nvPr/>
          </p:nvSpPr>
          <p:spPr>
            <a:xfrm>
              <a:off x="4800600" y="4896000"/>
              <a:ext cx="506520" cy="5317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" name="Picture 35" descr="BD21301_"/>
            <p:cNvPicPr/>
            <p:nvPr/>
          </p:nvPicPr>
          <p:blipFill>
            <a:blip r:embed="rId2"/>
            <a:stretch/>
          </p:blipFill>
          <p:spPr>
            <a:xfrm>
              <a:off x="4907160" y="5094360"/>
              <a:ext cx="12384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36" descr="BD21301_"/>
            <p:cNvPicPr/>
            <p:nvPr/>
          </p:nvPicPr>
          <p:blipFill>
            <a:blip r:embed="rId3"/>
            <a:stretch/>
          </p:blipFill>
          <p:spPr>
            <a:xfrm>
              <a:off x="5059440" y="5096160"/>
              <a:ext cx="123840" cy="123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5" name="Group 37"/>
            <p:cNvGrpSpPr/>
            <p:nvPr/>
          </p:nvGrpSpPr>
          <p:grpSpPr>
            <a:xfrm>
              <a:off x="5589720" y="5283360"/>
              <a:ext cx="472680" cy="566280"/>
              <a:chOff x="5589720" y="5283360"/>
              <a:chExt cx="472680" cy="566280"/>
            </a:xfrm>
          </p:grpSpPr>
          <p:sp>
            <p:nvSpPr>
              <p:cNvPr id="146" name="Oval 38"/>
              <p:cNvSpPr/>
              <p:nvPr/>
            </p:nvSpPr>
            <p:spPr>
              <a:xfrm>
                <a:off x="5719680" y="5283360"/>
                <a:ext cx="209160" cy="228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39"/>
              <p:cNvSpPr/>
              <p:nvPr/>
            </p:nvSpPr>
            <p:spPr>
              <a:xfrm>
                <a:off x="5825880" y="5506920"/>
                <a:ext cx="0" cy="20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40"/>
              <p:cNvSpPr/>
              <p:nvPr/>
            </p:nvSpPr>
            <p:spPr>
              <a:xfrm flipH="1">
                <a:off x="5727600" y="5710320"/>
                <a:ext cx="97920" cy="12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41"/>
              <p:cNvSpPr/>
              <p:nvPr/>
            </p:nvSpPr>
            <p:spPr>
              <a:xfrm>
                <a:off x="5825880" y="5702400"/>
                <a:ext cx="98280" cy="14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42"/>
              <p:cNvSpPr/>
              <p:nvPr/>
            </p:nvSpPr>
            <p:spPr>
              <a:xfrm flipH="1" flipV="1">
                <a:off x="5589720" y="5497560"/>
                <a:ext cx="236160" cy="9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43"/>
              <p:cNvSpPr/>
              <p:nvPr/>
            </p:nvSpPr>
            <p:spPr>
              <a:xfrm flipV="1">
                <a:off x="5825880" y="5514840"/>
                <a:ext cx="236520" cy="8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Line 44"/>
            <p:cNvSpPr/>
            <p:nvPr/>
          </p:nvSpPr>
          <p:spPr>
            <a:xfrm>
              <a:off x="6164280" y="5551560"/>
              <a:ext cx="85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AutoShape 45"/>
            <p:cNvSpPr/>
            <p:nvPr/>
          </p:nvSpPr>
          <p:spPr>
            <a:xfrm>
              <a:off x="6310440" y="4897440"/>
              <a:ext cx="506520" cy="532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4" name="Picture 46" descr="BD21301_"/>
            <p:cNvPicPr/>
            <p:nvPr/>
          </p:nvPicPr>
          <p:blipFill>
            <a:blip r:embed="rId4"/>
            <a:stretch/>
          </p:blipFill>
          <p:spPr>
            <a:xfrm>
              <a:off x="6353280" y="5096160"/>
              <a:ext cx="12384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47" descr="BD21301_"/>
            <p:cNvPicPr/>
            <p:nvPr/>
          </p:nvPicPr>
          <p:blipFill>
            <a:blip r:embed="rId5"/>
            <a:stretch/>
          </p:blipFill>
          <p:spPr>
            <a:xfrm>
              <a:off x="6505920" y="5097600"/>
              <a:ext cx="12348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48" descr="BD21301_"/>
            <p:cNvPicPr/>
            <p:nvPr/>
          </p:nvPicPr>
          <p:blipFill>
            <a:blip r:embed="rId6"/>
            <a:stretch/>
          </p:blipFill>
          <p:spPr>
            <a:xfrm>
              <a:off x="6658200" y="5099040"/>
              <a:ext cx="123840" cy="123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7" name="Group 49"/>
            <p:cNvGrpSpPr/>
            <p:nvPr/>
          </p:nvGrpSpPr>
          <p:grpSpPr>
            <a:xfrm>
              <a:off x="7083720" y="5284800"/>
              <a:ext cx="472680" cy="567000"/>
              <a:chOff x="7083720" y="5284800"/>
              <a:chExt cx="472680" cy="567000"/>
            </a:xfrm>
          </p:grpSpPr>
          <p:sp>
            <p:nvSpPr>
              <p:cNvPr id="158" name="Oval 50"/>
              <p:cNvSpPr/>
              <p:nvPr/>
            </p:nvSpPr>
            <p:spPr>
              <a:xfrm>
                <a:off x="7213680" y="5284800"/>
                <a:ext cx="209160" cy="228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51"/>
              <p:cNvSpPr/>
              <p:nvPr/>
            </p:nvSpPr>
            <p:spPr>
              <a:xfrm>
                <a:off x="7319880" y="5508720"/>
                <a:ext cx="0" cy="20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52"/>
              <p:cNvSpPr/>
              <p:nvPr/>
            </p:nvSpPr>
            <p:spPr>
              <a:xfrm flipH="1">
                <a:off x="7221600" y="5712120"/>
                <a:ext cx="97920" cy="1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53"/>
              <p:cNvSpPr/>
              <p:nvPr/>
            </p:nvSpPr>
            <p:spPr>
              <a:xfrm>
                <a:off x="7319880" y="5704200"/>
                <a:ext cx="98280" cy="14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Line 54"/>
              <p:cNvSpPr/>
              <p:nvPr/>
            </p:nvSpPr>
            <p:spPr>
              <a:xfrm flipH="1" flipV="1">
                <a:off x="7083720" y="5499000"/>
                <a:ext cx="236160" cy="9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Line 55"/>
              <p:cNvSpPr/>
              <p:nvPr/>
            </p:nvSpPr>
            <p:spPr>
              <a:xfrm flipV="1">
                <a:off x="7319880" y="5516280"/>
                <a:ext cx="236520" cy="8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Group 56"/>
            <p:cNvGrpSpPr/>
            <p:nvPr/>
          </p:nvGrpSpPr>
          <p:grpSpPr>
            <a:xfrm>
              <a:off x="1063800" y="5273640"/>
              <a:ext cx="472680" cy="567000"/>
              <a:chOff x="1063800" y="5273640"/>
              <a:chExt cx="472680" cy="567000"/>
            </a:xfrm>
          </p:grpSpPr>
          <p:sp>
            <p:nvSpPr>
              <p:cNvPr id="165" name="Oval 57"/>
              <p:cNvSpPr/>
              <p:nvPr/>
            </p:nvSpPr>
            <p:spPr>
              <a:xfrm>
                <a:off x="1193760" y="5273640"/>
                <a:ext cx="209160" cy="228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Line 58"/>
              <p:cNvSpPr/>
              <p:nvPr/>
            </p:nvSpPr>
            <p:spPr>
              <a:xfrm>
                <a:off x="1299960" y="5497560"/>
                <a:ext cx="0" cy="20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Line 59"/>
              <p:cNvSpPr/>
              <p:nvPr/>
            </p:nvSpPr>
            <p:spPr>
              <a:xfrm flipH="1">
                <a:off x="1201680" y="5700960"/>
                <a:ext cx="97920" cy="1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Line 60"/>
              <p:cNvSpPr/>
              <p:nvPr/>
            </p:nvSpPr>
            <p:spPr>
              <a:xfrm>
                <a:off x="1299960" y="5693040"/>
                <a:ext cx="98280" cy="14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Line 61"/>
              <p:cNvSpPr/>
              <p:nvPr/>
            </p:nvSpPr>
            <p:spPr>
              <a:xfrm flipH="1" flipV="1">
                <a:off x="1063800" y="5487840"/>
                <a:ext cx="236160" cy="9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Line 62"/>
              <p:cNvSpPr/>
              <p:nvPr/>
            </p:nvSpPr>
            <p:spPr>
              <a:xfrm flipV="1">
                <a:off x="1299960" y="5505120"/>
                <a:ext cx="236520" cy="8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" name="Text Box 63"/>
            <p:cNvSpPr/>
            <p:nvPr/>
          </p:nvSpPr>
          <p:spPr>
            <a:xfrm>
              <a:off x="997920" y="5842080"/>
              <a:ext cx="59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64"/>
            <p:cNvSpPr/>
            <p:nvPr/>
          </p:nvSpPr>
          <p:spPr>
            <a:xfrm>
              <a:off x="2467800" y="584856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al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65"/>
            <p:cNvSpPr/>
            <p:nvPr/>
          </p:nvSpPr>
          <p:spPr>
            <a:xfrm>
              <a:off x="3988080" y="5848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66"/>
            <p:cNvSpPr/>
            <p:nvPr/>
          </p:nvSpPr>
          <p:spPr>
            <a:xfrm>
              <a:off x="5618880" y="584208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i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67"/>
            <p:cNvSpPr/>
            <p:nvPr/>
          </p:nvSpPr>
          <p:spPr>
            <a:xfrm>
              <a:off x="6817680" y="584208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tho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Text Box 71"/>
          <p:cNvSpPr/>
          <p:nvPr/>
        </p:nvSpPr>
        <p:spPr>
          <a:xfrm>
            <a:off x="1630440" y="3710160"/>
            <a:ext cx="54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occurring in the form of a workfl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72"/>
          <p:cNvSpPr/>
          <p:nvPr/>
        </p:nvSpPr>
        <p:spPr>
          <a:xfrm rot="16200000">
            <a:off x="4226040" y="2666880"/>
            <a:ext cx="225360" cy="1479600"/>
          </a:xfrm>
          <a:custGeom>
            <a:avLst/>
            <a:gdLst>
              <a:gd name="textAreaLeft" fmla="*/ 144000 w 225360"/>
              <a:gd name="textAreaRight" fmla="*/ 225720 w 225360"/>
              <a:gd name="textAreaTop" fmla="*/ 38520 h 1479600"/>
              <a:gd name="textAreaBottom" fmla="*/ 1441080 h 147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Identif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4" descr="facing-right"/>
          <p:cNvPicPr/>
          <p:nvPr/>
        </p:nvPicPr>
        <p:blipFill>
          <a:blip r:embed="rId1"/>
          <a:stretch/>
        </p:blipFill>
        <p:spPr>
          <a:xfrm>
            <a:off x="2055960" y="3844800"/>
            <a:ext cx="1185840" cy="1817640"/>
          </a:xfrm>
          <a:prstGeom prst="rect">
            <a:avLst/>
          </a:prstGeom>
          <a:ln w="0">
            <a:noFill/>
          </a:ln>
        </p:spPr>
      </p:pic>
      <p:sp>
        <p:nvSpPr>
          <p:cNvPr id="547" name="AutoShape 5"/>
          <p:cNvSpPr/>
          <p:nvPr/>
        </p:nvSpPr>
        <p:spPr>
          <a:xfrm>
            <a:off x="3263760" y="2646360"/>
            <a:ext cx="3737160" cy="1490760"/>
          </a:xfrm>
          <a:prstGeom prst="wedgeRoundRectCallout">
            <a:avLst>
              <a:gd name="adj1" fmla="val -45750"/>
              <a:gd name="adj2" fmla="val 7822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SSN i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employee # i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driver's license # i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ID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Schema 1.1 enables you to associate multiple ID values to an el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2322720" y="3578400"/>
            <a:ext cx="3087000" cy="119124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r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-number="…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ial-number="…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4640" y="274320"/>
            <a:ext cx="855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mbol for the decimal point i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.S.A. versus Fr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3018240" y="2379600"/>
            <a:ext cx="2757960" cy="173988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5.7 (US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5,7  (Franc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's the symbol for the decimal point in XML Schema 1.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4075200" y="3041640"/>
            <a:ext cx="981000" cy="6426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's the symbol for the decimal point in XML Schema 1.1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6"/>
          <p:cNvSpPr/>
          <p:nvPr/>
        </p:nvSpPr>
        <p:spPr>
          <a:xfrm>
            <a:off x="2537280" y="4448160"/>
            <a:ext cx="484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n't that unfair to the folks in Fra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7"/>
          <p:cNvSpPr/>
          <p:nvPr/>
        </p:nvSpPr>
        <p:spPr>
          <a:xfrm>
            <a:off x="4075200" y="3041640"/>
            <a:ext cx="981000" cy="6426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dor-unique Exten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Schema 1.1 allows vendors to extend the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s a vendor may create a new decimal datatype (French:decimal) with "," as the decimal poi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new data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yAtomic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he anyAtomicType is the union of the values of all the primitive types (string + integer + boolean +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dateTimeStam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: a dateTimeStamp value is a date plus time plus time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yearMonthDur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: a yearMonthDuration value is a duration consisting of years and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dayTimeDur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: a dayTimeDuration value is a duration consisting of days and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3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Schema 1.1 has lots of powerful new feat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hope this tutorial has convinced you that these new features can benefit your busi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recommend switching to XML Schema 1.1 as soon as poss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53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as permanent stora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3"/>
          <p:cNvSpPr/>
          <p:nvPr/>
        </p:nvSpPr>
        <p:spPr>
          <a:xfrm>
            <a:off x="1949400" y="2954160"/>
            <a:ext cx="857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14"/>
          <p:cNvSpPr/>
          <p:nvPr/>
        </p:nvSpPr>
        <p:spPr>
          <a:xfrm>
            <a:off x="2095560" y="2300400"/>
            <a:ext cx="506520" cy="5317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5"/>
          <p:cNvSpPr/>
          <p:nvPr/>
        </p:nvSpPr>
        <p:spPr>
          <a:xfrm>
            <a:off x="3533760" y="2955960"/>
            <a:ext cx="857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0"/>
          <p:cNvSpPr/>
          <p:nvPr/>
        </p:nvSpPr>
        <p:spPr>
          <a:xfrm>
            <a:off x="1238400" y="2724120"/>
            <a:ext cx="688680" cy="46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62"/>
          <p:cNvSpPr/>
          <p:nvPr/>
        </p:nvSpPr>
        <p:spPr>
          <a:xfrm>
            <a:off x="2817720" y="2733840"/>
            <a:ext cx="689040" cy="466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63"/>
          <p:cNvSpPr/>
          <p:nvPr/>
        </p:nvSpPr>
        <p:spPr>
          <a:xfrm>
            <a:off x="5133960" y="2955960"/>
            <a:ext cx="857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4"/>
          <p:cNvSpPr/>
          <p:nvPr/>
        </p:nvSpPr>
        <p:spPr>
          <a:xfrm>
            <a:off x="4417920" y="2733840"/>
            <a:ext cx="689040" cy="466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6"/>
          <p:cNvSpPr/>
          <p:nvPr/>
        </p:nvSpPr>
        <p:spPr>
          <a:xfrm>
            <a:off x="6008760" y="2733840"/>
            <a:ext cx="689040" cy="466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67"/>
          <p:cNvSpPr/>
          <p:nvPr/>
        </p:nvSpPr>
        <p:spPr>
          <a:xfrm>
            <a:off x="1862280" y="3649680"/>
            <a:ext cx="511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application does a "unit of work." It is desirable, after each unit of work, to assess the system. XML Schemas can be used to check each application's outp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2286000" y="1000080"/>
            <a:ext cx="4572000" cy="55825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ck the information–validate that no rules are being brok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some 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validate that no rules have been broken (as a result of the work)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.e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heck that you’re still on tra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do another unit of 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validate ag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do another unit of 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validate ag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o for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2266920" y="485640"/>
            <a:ext cx="519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envision systems working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live in a world of ru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iv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we follow the rules of the r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u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we form lines at banks and in the checkout lanes at the supermar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x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ccountants spend lots of time each year learning the new tax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w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our legal system enforces societies' la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s guide our a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s let us know if we are on or off tr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 are Import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1029240" y="3204360"/>
            <a:ext cx="7218720" cy="36828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 enterprise work as it grows toward perfection becomes rule-ba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5380200" y="3922560"/>
            <a:ext cx="212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ger Costello and Bob Wi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Schema =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Schemas is all about expressing ru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s about what data is allow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s about how the data must be organ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s about the relationships between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My Va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1730520" y="2079720"/>
            <a:ext cx="5798880" cy="344808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Vacati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Trip segment="1" mode="air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Transportation&gt;airplane&lt;/Transportati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Tri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Trip segment="2" mode="water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Transportation&gt;boat&lt;/Transportati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Tri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Trip segment="3" mode="ground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Transportation&gt;car&lt;/Transportati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Tri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Vacati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41200" y="1658880"/>
            <a:ext cx="4543560" cy="2770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Vacatio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egment id="1" mode="air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Transportation&gt;airplane&lt;/Transportatio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Segmen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egment id="2" mode="water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Transportation&gt;boat&lt;/Transportatio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Segmen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egment id="3" mode="ground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Transportation&gt;car&lt;/Transportatio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Segmen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Vacatio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2751840" y="4978440"/>
            <a:ext cx="6342120" cy="14655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le 1: A vacation has segm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le 2: Each segment is uniquely identifi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le 3: There are three modes of transportation: air, water, grou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le 4: Each segment has a mode of transport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le 5: Each segment must identify the specific mode us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5144400" y="451944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Bent-Up Arrow 6"/>
          <p:cNvSpPr/>
          <p:nvPr/>
        </p:nvSpPr>
        <p:spPr>
          <a:xfrm flipV="1">
            <a:off x="4851360" y="2687040"/>
            <a:ext cx="1587600" cy="1734840"/>
          </a:xfrm>
          <a:custGeom>
            <a:avLst/>
            <a:gdLst/>
            <a:ahLst/>
            <a:rect l="l" t="t" r="r" b="b"/>
            <a:pathLst>
              <a:path w="1587500" h="1735137">
                <a:moveTo>
                  <a:pt x="0" y="1338262"/>
                </a:moveTo>
                <a:lnTo>
                  <a:pt x="934466" y="1338262"/>
                </a:lnTo>
                <a:lnTo>
                  <a:pt x="934466" y="396875"/>
                </a:lnTo>
                <a:lnTo>
                  <a:pt x="678307" y="396875"/>
                </a:lnTo>
                <a:lnTo>
                  <a:pt x="1132904" y="0"/>
                </a:lnTo>
                <a:lnTo>
                  <a:pt x="1587500" y="396875"/>
                </a:lnTo>
                <a:lnTo>
                  <a:pt x="1331341" y="396875"/>
                </a:lnTo>
                <a:lnTo>
                  <a:pt x="1331341" y="1735137"/>
                </a:lnTo>
                <a:lnTo>
                  <a:pt x="0" y="1735137"/>
                </a:lnTo>
                <a:lnTo>
                  <a:pt x="0" y="1338262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Box 7"/>
          <p:cNvSpPr/>
          <p:nvPr/>
        </p:nvSpPr>
        <p:spPr>
          <a:xfrm>
            <a:off x="6310800" y="2762280"/>
            <a:ext cx="241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e the 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 again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XM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rable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1959120" y="2417760"/>
            <a:ext cx="3016080" cy="271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1959120" y="2859120"/>
            <a:ext cx="300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2183400" y="244476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3193920" y="2417760"/>
            <a:ext cx="0" cy="271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3171240" y="24271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2290320" y="2981160"/>
            <a:ext cx="4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3297240" y="2911320"/>
            <a:ext cx="153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rplan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t-air ballo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1"/>
          <p:cNvSpPr/>
          <p:nvPr/>
        </p:nvSpPr>
        <p:spPr>
          <a:xfrm>
            <a:off x="1959120" y="3600360"/>
            <a:ext cx="2997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2198160" y="371016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3293280" y="3639960"/>
            <a:ext cx="11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a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vercra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14"/>
          <p:cNvSpPr/>
          <p:nvPr/>
        </p:nvSpPr>
        <p:spPr>
          <a:xfrm>
            <a:off x="1954080" y="4329000"/>
            <a:ext cx="299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2194200" y="44560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3288240" y="4386240"/>
            <a:ext cx="8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7"/>
          <p:cNvSpPr/>
          <p:nvPr/>
        </p:nvSpPr>
        <p:spPr>
          <a:xfrm>
            <a:off x="5199120" y="2843280"/>
            <a:ext cx="3160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: if mode = air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ation must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ther airplane or hot-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l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rules for wa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gr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ML Schema 1.0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not detect this err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228680" y="2470320"/>
            <a:ext cx="5800680" cy="119124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egment id="1" mode=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i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Transportation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Transportatio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Segm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5"/>
          <p:cNvSpPr/>
          <p:nvPr/>
        </p:nvSpPr>
        <p:spPr>
          <a:xfrm flipH="1" flipV="1">
            <a:off x="4464000" y="3271320"/>
            <a:ext cx="574560" cy="109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6"/>
          <p:cNvSpPr/>
          <p:nvPr/>
        </p:nvSpPr>
        <p:spPr>
          <a:xfrm flipH="1" flipV="1">
            <a:off x="4687920" y="2868480"/>
            <a:ext cx="350640" cy="148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4870800" y="4286160"/>
            <a:ext cx="297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inconsis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7"/>
          <p:cNvSpPr/>
          <p:nvPr/>
        </p:nvSpPr>
        <p:spPr>
          <a:xfrm>
            <a:off x="350280" y="5560920"/>
            <a:ext cx="868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can’t the error be detected using XML Schema 1.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: Because the rule on the preceding slide cannot be ex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0840" y="1627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this tutorial is to give an overview of the new features of XML Schema 1.1 without getting into its synta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targeted to manag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show how these new technical features can benefit your busi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Schema 1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ch more powerful than 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express many more rules (The rule on the preceding slide can be expressed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's see the new features that 1.1 provide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New Feature: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Express Business Policies 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 and Rules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using Asser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2"/>
          <p:cNvSpPr/>
          <p:nvPr/>
        </p:nvSpPr>
        <p:spPr>
          <a:xfrm>
            <a:off x="1752480" y="2666880"/>
            <a:ext cx="58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Level 1 managers may sign off on purchase requests that do not exceed $10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ounded Rectangle 7"/>
          <p:cNvSpPr/>
          <p:nvPr/>
        </p:nvSpPr>
        <p:spPr>
          <a:xfrm>
            <a:off x="1371600" y="2438280"/>
            <a:ext cx="6172200" cy="1371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Box 7"/>
          <p:cNvSpPr/>
          <p:nvPr/>
        </p:nvSpPr>
        <p:spPr>
          <a:xfrm>
            <a:off x="1752480" y="2676600"/>
            <a:ext cx="58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Level 1 managers may sign off on purchase requests that do not exceed $10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doesn't conform t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ny poli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939960" y="2778120"/>
            <a:ext cx="7154640" cy="192276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&lt;purchase-reques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&lt;item&gt;Widget&lt;/ite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&lt;cost&g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150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&lt;/cos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&lt;signatureAuthority&g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Level 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&lt;/signatureAuthorit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&lt;/purchase-reques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9"/>
          <p:cNvSpPr/>
          <p:nvPr/>
        </p:nvSpPr>
        <p:spPr>
          <a:xfrm>
            <a:off x="4140360" y="3554280"/>
            <a:ext cx="533160" cy="381240"/>
          </a:xfrm>
          <a:custGeom>
            <a:avLst/>
            <a:gdLst>
              <a:gd name="textAreaLeft" fmla="*/ 78120 w 533160"/>
              <a:gd name="textAreaRight" fmla="*/ 455040 w 533160"/>
              <a:gd name="textAreaTop" fmla="*/ 55800 h 381240"/>
              <a:gd name="textAreaBottom" fmla="*/ 32544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it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i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olded Corner 6"/>
          <p:cNvSpPr/>
          <p:nvPr/>
        </p:nvSpPr>
        <p:spPr>
          <a:xfrm>
            <a:off x="380880" y="1905120"/>
            <a:ext cx="2590920" cy="1904760"/>
          </a:xfrm>
          <a:prstGeom prst="foldedCorner">
            <a:avLst>
              <a:gd name="adj" fmla="val 16666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7"/>
          <p:cNvSpPr/>
          <p:nvPr/>
        </p:nvSpPr>
        <p:spPr>
          <a:xfrm flipH="1">
            <a:off x="774000" y="189864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M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lowchart: Document 8"/>
          <p:cNvSpPr/>
          <p:nvPr/>
        </p:nvSpPr>
        <p:spPr>
          <a:xfrm>
            <a:off x="4572000" y="2971800"/>
            <a:ext cx="2286000" cy="2133720"/>
          </a:xfrm>
          <a:prstGeom prst="flowChartDocumen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  <a:effectLst>
            <a:outerShdw dist="5076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Box 9"/>
          <p:cNvSpPr/>
          <p:nvPr/>
        </p:nvSpPr>
        <p:spPr>
          <a:xfrm flipH="1">
            <a:off x="4952160" y="320040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M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lid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Straight Arrow Connector 11"/>
          <p:cNvCxnSpPr/>
          <p:nvPr/>
        </p:nvCxnSpPr>
        <p:spPr>
          <a:xfrm>
            <a:off x="3048120" y="2743200"/>
            <a:ext cx="1372320" cy="5342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242" name="Straight Arrow Connector 14"/>
          <p:cNvCxnSpPr/>
          <p:nvPr/>
        </p:nvCxnSpPr>
        <p:spPr>
          <a:xfrm flipV="1">
            <a:off x="3123720" y="4266720"/>
            <a:ext cx="1296360" cy="6105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243" name="Straight Arrow Connector 16"/>
          <p:cNvCxnSpPr/>
          <p:nvPr/>
        </p:nvCxnSpPr>
        <p:spPr>
          <a:xfrm>
            <a:off x="6857640" y="3809520"/>
            <a:ext cx="610200" cy="2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244" name="TextBox 17"/>
          <p:cNvSpPr/>
          <p:nvPr/>
        </p:nvSpPr>
        <p:spPr>
          <a:xfrm>
            <a:off x="7470360" y="358128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ali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264960" y="4213080"/>
            <a:ext cx="2691000" cy="1371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purchase-reques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item&gt;Widget&lt;/ite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cost&gt;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50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cos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signatureAuthori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vel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signatureAuthori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purchase-reques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ounded Rectangle 7"/>
          <p:cNvSpPr/>
          <p:nvPr/>
        </p:nvSpPr>
        <p:spPr>
          <a:xfrm>
            <a:off x="520560" y="2705040"/>
            <a:ext cx="2119320" cy="957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Box 7"/>
          <p:cNvSpPr/>
          <p:nvPr/>
        </p:nvSpPr>
        <p:spPr>
          <a:xfrm>
            <a:off x="579600" y="2658960"/>
            <a:ext cx="2084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Level 1 managers may sign off on purchase requests that do not exceed $10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Schema 1.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1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XML Schema 1.0 business policies and rules could not be express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licy rule on the previous slides could not be expres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quence: developers buried policies and rules in procedural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5280120" y="5110200"/>
            <a:ext cx="1658880" cy="1353960"/>
          </a:xfrm>
          <a:prstGeom prst="flowChartPredefined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ounded Rectangle 7"/>
          <p:cNvSpPr/>
          <p:nvPr/>
        </p:nvSpPr>
        <p:spPr>
          <a:xfrm>
            <a:off x="2189160" y="5343480"/>
            <a:ext cx="2119320" cy="957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7"/>
          <p:cNvSpPr/>
          <p:nvPr/>
        </p:nvSpPr>
        <p:spPr>
          <a:xfrm>
            <a:off x="2247840" y="5297400"/>
            <a:ext cx="2084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Level 1 managers may sign off on purchase requests that do not exceed $10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8"/>
          <p:cNvSpPr/>
          <p:nvPr/>
        </p:nvSpPr>
        <p:spPr>
          <a:xfrm>
            <a:off x="4195800" y="5342040"/>
            <a:ext cx="136188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9"/>
          <p:cNvSpPr/>
          <p:nvPr/>
        </p:nvSpPr>
        <p:spPr>
          <a:xfrm flipV="1">
            <a:off x="4221000" y="5754240"/>
            <a:ext cx="1346400" cy="53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advantage #1 of Burie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cies and R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4"/>
          <p:cNvSpPr/>
          <p:nvPr/>
        </p:nvSpPr>
        <p:spPr>
          <a:xfrm>
            <a:off x="3827520" y="2500200"/>
            <a:ext cx="3209760" cy="3605400"/>
          </a:xfrm>
          <a:prstGeom prst="flowChartPredefined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ounded Rectangle 7"/>
          <p:cNvSpPr/>
          <p:nvPr/>
        </p:nvSpPr>
        <p:spPr>
          <a:xfrm>
            <a:off x="4527720" y="4967280"/>
            <a:ext cx="1858680" cy="5349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7"/>
          <p:cNvSpPr/>
          <p:nvPr/>
        </p:nvSpPr>
        <p:spPr>
          <a:xfrm>
            <a:off x="4586400" y="4921200"/>
            <a:ext cx="208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Policy, expressed in Java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15"/>
          <p:cNvSpPr/>
          <p:nvPr/>
        </p:nvSpPr>
        <p:spPr>
          <a:xfrm flipH="1">
            <a:off x="195120" y="50436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16" descr="frustrated"/>
          <p:cNvPicPr/>
          <p:nvPr/>
        </p:nvPicPr>
        <p:blipFill>
          <a:blip r:embed="rId1"/>
          <a:stretch/>
        </p:blipFill>
        <p:spPr>
          <a:xfrm>
            <a:off x="271440" y="4079880"/>
            <a:ext cx="1247760" cy="1068480"/>
          </a:xfrm>
          <a:prstGeom prst="rect">
            <a:avLst/>
          </a:prstGeom>
          <a:ln w="0">
            <a:noFill/>
          </a:ln>
        </p:spPr>
      </p:pic>
      <p:sp>
        <p:nvSpPr>
          <p:cNvPr id="261" name="AutoShape 15"/>
          <p:cNvSpPr/>
          <p:nvPr/>
        </p:nvSpPr>
        <p:spPr>
          <a:xfrm>
            <a:off x="1406520" y="2475000"/>
            <a:ext cx="2260440" cy="1442880"/>
          </a:xfrm>
          <a:prstGeom prst="wedgeRoundRectCallout">
            <a:avLst>
              <a:gd name="adj1" fmla="val -60180"/>
              <a:gd name="adj2" fmla="val 7244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don't understand Java. I can't change the policy. Argh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advantage #1 of Burie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cies and R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2122560" y="3119400"/>
            <a:ext cx="4816440" cy="4597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icult to change policies and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advantage #2 of Burie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cies and Ru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5"/>
          <p:cNvSpPr/>
          <p:nvPr/>
        </p:nvSpPr>
        <p:spPr>
          <a:xfrm>
            <a:off x="3827520" y="2500200"/>
            <a:ext cx="3209760" cy="3605400"/>
          </a:xfrm>
          <a:prstGeom prst="flowChartPredefined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ounded Rectangle 7"/>
          <p:cNvSpPr/>
          <p:nvPr/>
        </p:nvSpPr>
        <p:spPr>
          <a:xfrm>
            <a:off x="4527720" y="4967280"/>
            <a:ext cx="1858680" cy="5349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4586400" y="4921200"/>
            <a:ext cx="208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Policy, expressed in Java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8" descr="facing-right"/>
          <p:cNvPicPr/>
          <p:nvPr/>
        </p:nvPicPr>
        <p:blipFill>
          <a:blip r:embed="rId1"/>
          <a:stretch/>
        </p:blipFill>
        <p:spPr>
          <a:xfrm>
            <a:off x="1027080" y="3600360"/>
            <a:ext cx="963720" cy="147816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9"/>
          <p:cNvSpPr/>
          <p:nvPr/>
        </p:nvSpPr>
        <p:spPr>
          <a:xfrm>
            <a:off x="752760" y="47973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AutoShape 10"/>
          <p:cNvSpPr/>
          <p:nvPr/>
        </p:nvSpPr>
        <p:spPr>
          <a:xfrm>
            <a:off x="1944720" y="2313000"/>
            <a:ext cx="1749240" cy="12366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can I sign off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advantage #2 of Burie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cies and Ru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2813040" y="2649600"/>
            <a:ext cx="3516480" cy="22885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licies and rules are expressed in code instructions and are less visible – perhaps only the programmer knows the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val 6"/>
          <p:cNvSpPr/>
          <p:nvPr/>
        </p:nvSpPr>
        <p:spPr>
          <a:xfrm>
            <a:off x="2165400" y="3908520"/>
            <a:ext cx="2509920" cy="279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1.0 Schemas will still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An XML document conforming to a 1.0 schema can be validated using a 1.1 validator, but an XML document conforming to a 1.1 schema might not validate using a 1.0 valida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Oval 4"/>
          <p:cNvSpPr/>
          <p:nvPr/>
        </p:nvSpPr>
        <p:spPr>
          <a:xfrm>
            <a:off x="2790720" y="4741920"/>
            <a:ext cx="1673280" cy="1668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 Schema 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549520" y="424332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 Schema 1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4707360" y="4681440"/>
            <a:ext cx="271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 Schema 1.1 is a supers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 XML Schema 1.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Schema 1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XML Schema 1.1 policies and rules can be expres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ies and rules are declaratively expres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quence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Policies and rules can be easily chang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Policies and rules are transpa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Business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2"/>
          <p:cNvSpPr/>
          <p:nvPr/>
        </p:nvSpPr>
        <p:spPr>
          <a:xfrm>
            <a:off x="1752480" y="2666880"/>
            <a:ext cx="58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Level 1 managers may sign off on purchase requests that do not exceed $10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ounded Rectangle 7"/>
          <p:cNvSpPr/>
          <p:nvPr/>
        </p:nvSpPr>
        <p:spPr>
          <a:xfrm>
            <a:off x="1371600" y="2543040"/>
            <a:ext cx="6172200" cy="1371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Box 7"/>
          <p:cNvSpPr/>
          <p:nvPr/>
        </p:nvSpPr>
        <p:spPr>
          <a:xfrm>
            <a:off x="1459080" y="2819520"/>
            <a:ext cx="626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No paragraph may have a security classification higher than the document's classific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4"/>
          <p:cNvSpPr/>
          <p:nvPr/>
        </p:nvSpPr>
        <p:spPr>
          <a:xfrm>
            <a:off x="388800" y="2671920"/>
            <a:ext cx="8407800" cy="4597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-secret </a:t>
            </a: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is higher th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cret </a:t>
            </a: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is higher th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fidential </a:t>
            </a: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is higher th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nclass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1444680" y="1847880"/>
            <a:ext cx="457200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Document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lassification="secret"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Para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ification="unclassified"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Para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Para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ification="secret"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Para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Para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ification="unclassified"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Para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Para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ification="secret"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Para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Documen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6"/>
          <p:cNvSpPr/>
          <p:nvPr/>
        </p:nvSpPr>
        <p:spPr>
          <a:xfrm>
            <a:off x="6184800" y="1871640"/>
            <a:ext cx="335160" cy="3905280"/>
          </a:xfrm>
          <a:custGeom>
            <a:avLst/>
            <a:gdLst>
              <a:gd name="textAreaLeft" fmla="*/ 0 w 335160"/>
              <a:gd name="textAreaRight" fmla="*/ 120960 w 335160"/>
              <a:gd name="textAreaTop" fmla="*/ 101520 h 3905280"/>
              <a:gd name="textAreaBottom" fmla="*/ 3803760 h 390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6707160" y="3500280"/>
            <a:ext cx="2255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no &lt;Para&gt; element has a classification higher than the &lt;Document&gt; element's class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ML Schema 1.0 versu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ML Schema 1.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84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XML Schema 1.0 you cannot express the rule on the previous sl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XML Schema 1.1 you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ress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AutoShape 4"/>
          <p:cNvSpPr/>
          <p:nvPr/>
        </p:nvSpPr>
        <p:spPr>
          <a:xfrm>
            <a:off x="2889360" y="492120"/>
            <a:ext cx="3344760" cy="16239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3396240" y="1014480"/>
            <a:ext cx="22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mmar che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2219400" y="3770280"/>
            <a:ext cx="4041720" cy="174168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2878920" y="4376880"/>
            <a:ext cx="27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 rule che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6300360" y="942840"/>
            <a:ext cx="23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Schema 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9"/>
          <p:cNvSpPr/>
          <p:nvPr/>
        </p:nvSpPr>
        <p:spPr>
          <a:xfrm>
            <a:off x="6381360" y="4359240"/>
            <a:ext cx="23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Schema 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ML Schema 1.0 versu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ML Schema 1.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XML Schema 1.0 you can express grammar (syntax) constraint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is markup should occur in this order, that data should be a date, and so for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XML Schema 1.1 you can still express grammar constraints but you can also express data relationships (business rules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classification value here must be less than the classification value t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Fe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2296800" y="2720880"/>
            <a:ext cx="451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Times New Roman"/>
              </a:rPr>
              <a:t>assertio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ress Policies and R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Asser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5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ies and rules are expressed in XML Schema 1.1 using assertion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3200"/>
            </a:b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sser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Level 1 managers may sign off on purchase requests that do not exceed $10K.</a:t>
            </a:r>
            <a:br>
              <a:rPr sz="3200"/>
            </a:b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sser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No paragraph may have a security classification higher than the document's classifica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've examined the first new feature in XML Schema 1.1, the ability to express policies and rules using asser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feature is a big benefit to businesses: now businesses can declaratively express their policies and rules in XML Schemas rather than burying them in procedural cod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Schema 1.1 Valid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chema-aware version of SAXON (version 9.3 or later) supports the full XML Schema 1.1 specification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saxonica.com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ache XERCES supports XML Schema 1.1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xerces.apache.org/xerces2-j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create XML Schema 1.1 schemas toda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4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New Feature: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reating Department-Specific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Data using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 Conditional Type Alterna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of Conditional Con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2"/>
          <p:cNvSpPr/>
          <p:nvPr/>
        </p:nvSpPr>
        <p:spPr>
          <a:xfrm>
            <a:off x="1752480" y="2666880"/>
            <a:ext cx="58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Level 1 managers may sign off on purchase requests that do not exceed $10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ounded Rectangle 7"/>
          <p:cNvSpPr/>
          <p:nvPr/>
        </p:nvSpPr>
        <p:spPr>
          <a:xfrm>
            <a:off x="1371600" y="2438280"/>
            <a:ext cx="6172200" cy="1371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Box 7"/>
          <p:cNvSpPr/>
          <p:nvPr/>
        </p:nvSpPr>
        <p:spPr>
          <a:xfrm>
            <a:off x="1752480" y="2505240"/>
            <a:ext cx="58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For each employee store this data: name, date of hire, employee number, and emergency contact telephone numb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1599480" y="1930320"/>
            <a:ext cx="471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 Resources (HR) Depart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Box 2"/>
          <p:cNvSpPr/>
          <p:nvPr/>
        </p:nvSpPr>
        <p:spPr>
          <a:xfrm>
            <a:off x="1771560" y="5000760"/>
            <a:ext cx="58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Level 1 managers may sign off on purchase requests that do not exceed $10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ounded Rectangle 7"/>
          <p:cNvSpPr/>
          <p:nvPr/>
        </p:nvSpPr>
        <p:spPr>
          <a:xfrm>
            <a:off x="1390680" y="4772160"/>
            <a:ext cx="6172200" cy="1371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Box 7"/>
          <p:cNvSpPr/>
          <p:nvPr/>
        </p:nvSpPr>
        <p:spPr>
          <a:xfrm>
            <a:off x="1771560" y="5029200"/>
            <a:ext cx="58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For each employee store this data: name, areas of expertise, and current projec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1"/>
          <p:cNvSpPr/>
          <p:nvPr/>
        </p:nvSpPr>
        <p:spPr>
          <a:xfrm>
            <a:off x="1614240" y="4264200"/>
            <a:ext cx="53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Technology (IT) Depart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ent varies, depending on dep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304560" y="2043000"/>
            <a:ext cx="2594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Employee dept="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Employe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628560" y="2386080"/>
            <a:ext cx="4157640" cy="1092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ame&gt;John Doe&lt;/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Hire-Date&gt;2000-01-01&lt;/Hire-Date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Employee-Num&gt;123&lt;/Employee-Num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mergency-Contact&gt;617-123-4567&lt;/Emergency-Contact&gt;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5162760" y="2130480"/>
            <a:ext cx="246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Employee dept="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Employe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5452920" y="2482920"/>
            <a:ext cx="3148200" cy="722160"/>
          </a:xfrm>
          <a:prstGeom prst="rect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ame&gt;John Doe&lt;/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Expertise&gt;XML, XML Schema&lt;/Expertis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Project&gt;upgrade xyz interface&lt;/Proj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5"/>
          <p:cNvSpPr/>
          <p:nvPr/>
        </p:nvSpPr>
        <p:spPr>
          <a:xfrm>
            <a:off x="1283760" y="3505320"/>
            <a:ext cx="3404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Employee dept="_________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Employe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1571760" y="3886200"/>
            <a:ext cx="3093840" cy="1289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7"/>
          <p:cNvSpPr/>
          <p:nvPr/>
        </p:nvSpPr>
        <p:spPr>
          <a:xfrm>
            <a:off x="3753000" y="3071880"/>
            <a:ext cx="0" cy="55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3559320" y="2021040"/>
            <a:ext cx="345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t's HR then the content m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n HR type. If it's IT then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 must be an IT typ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9"/>
          <p:cNvSpPr/>
          <p:nvPr/>
        </p:nvSpPr>
        <p:spPr>
          <a:xfrm flipH="1">
            <a:off x="3189240" y="3071880"/>
            <a:ext cx="56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10"/>
          <p:cNvSpPr/>
          <p:nvPr/>
        </p:nvSpPr>
        <p:spPr>
          <a:xfrm flipV="1">
            <a:off x="3176640" y="21952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11"/>
          <p:cNvSpPr/>
          <p:nvPr/>
        </p:nvSpPr>
        <p:spPr>
          <a:xfrm>
            <a:off x="3176640" y="218268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12"/>
          <p:cNvSpPr/>
          <p:nvPr/>
        </p:nvSpPr>
        <p:spPr>
          <a:xfrm flipH="1">
            <a:off x="4741920" y="4387680"/>
            <a:ext cx="3432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13"/>
          <p:cNvSpPr/>
          <p:nvPr/>
        </p:nvSpPr>
        <p:spPr>
          <a:xfrm flipV="1">
            <a:off x="5964120" y="1784520"/>
            <a:ext cx="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14"/>
          <p:cNvSpPr/>
          <p:nvPr/>
        </p:nvSpPr>
        <p:spPr>
          <a:xfrm>
            <a:off x="5964120" y="177624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15"/>
          <p:cNvSpPr/>
          <p:nvPr/>
        </p:nvSpPr>
        <p:spPr>
          <a:xfrm>
            <a:off x="8174160" y="1793880"/>
            <a:ext cx="0" cy="259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al Cont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16"/>
          <p:cNvSpPr/>
          <p:nvPr/>
        </p:nvSpPr>
        <p:spPr>
          <a:xfrm>
            <a:off x="2363760" y="2995560"/>
            <a:ext cx="4214880" cy="82548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tent of Employee is conditional to the value of dep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303840" y="2043000"/>
            <a:ext cx="2887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ublication kind="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Publicatio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628560" y="2386080"/>
            <a:ext cx="3971880" cy="1092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Title&gt;Origin of Wealth&lt;/Tit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Author&gt;Eric D. Beinhocker&lt;/Author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Date&gt;2006&lt;/Date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ISBN&gt;1-57851-777-X&lt;/ISBN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Publisher&gt;Harvard Business School Press&lt;/Publisher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7"/>
          <p:cNvSpPr/>
          <p:nvPr/>
        </p:nvSpPr>
        <p:spPr>
          <a:xfrm>
            <a:off x="5164200" y="2130480"/>
            <a:ext cx="338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ublication kind="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agaz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Publicatio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8"/>
          <p:cNvSpPr/>
          <p:nvPr/>
        </p:nvSpPr>
        <p:spPr>
          <a:xfrm>
            <a:off x="5452920" y="2482920"/>
            <a:ext cx="2816280" cy="722160"/>
          </a:xfrm>
          <a:prstGeom prst="rect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Genre&gt;Scientific&lt;/Genr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Circulation&gt;733,000&lt;/Circula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Founded&gt;1845-08-28&lt;/Founde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2660760" y="5084640"/>
            <a:ext cx="470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tent of Publication depends on the kind of publ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5"/>
          <p:cNvSpPr/>
          <p:nvPr/>
        </p:nvSpPr>
        <p:spPr>
          <a:xfrm>
            <a:off x="1284840" y="3505320"/>
            <a:ext cx="3478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ublication kind="_________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Publicatio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571760" y="3886200"/>
            <a:ext cx="3093840" cy="1289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7"/>
          <p:cNvSpPr/>
          <p:nvPr/>
        </p:nvSpPr>
        <p:spPr>
          <a:xfrm>
            <a:off x="3753000" y="3071880"/>
            <a:ext cx="0" cy="55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3561120" y="2021040"/>
            <a:ext cx="427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t's magazine then the content m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 Magazine type. If it's book then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 must be a Book typ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9"/>
          <p:cNvSpPr/>
          <p:nvPr/>
        </p:nvSpPr>
        <p:spPr>
          <a:xfrm flipH="1">
            <a:off x="3189240" y="3071880"/>
            <a:ext cx="56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10"/>
          <p:cNvSpPr/>
          <p:nvPr/>
        </p:nvSpPr>
        <p:spPr>
          <a:xfrm flipV="1">
            <a:off x="3176640" y="21952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11"/>
          <p:cNvSpPr/>
          <p:nvPr/>
        </p:nvSpPr>
        <p:spPr>
          <a:xfrm>
            <a:off x="3176640" y="218268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12"/>
          <p:cNvSpPr/>
          <p:nvPr/>
        </p:nvSpPr>
        <p:spPr>
          <a:xfrm flipH="1">
            <a:off x="4741920" y="4387680"/>
            <a:ext cx="3432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13"/>
          <p:cNvSpPr/>
          <p:nvPr/>
        </p:nvSpPr>
        <p:spPr>
          <a:xfrm flipV="1">
            <a:off x="6640560" y="1793880"/>
            <a:ext cx="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14"/>
          <p:cNvSpPr/>
          <p:nvPr/>
        </p:nvSpPr>
        <p:spPr>
          <a:xfrm>
            <a:off x="6645240" y="1793880"/>
            <a:ext cx="152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15"/>
          <p:cNvSpPr/>
          <p:nvPr/>
        </p:nvSpPr>
        <p:spPr>
          <a:xfrm>
            <a:off x="8174160" y="1793880"/>
            <a:ext cx="0" cy="259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al Con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2363760" y="2995560"/>
            <a:ext cx="4214880" cy="82548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tent of Publication is conditional to the value of k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Fe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1725120" y="2720880"/>
            <a:ext cx="5322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Times New Roman"/>
              </a:rPr>
              <a:t>alternativ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ress Conditional Content using Alterna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457200" y="1917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itional content is expressed in XML Schema 1.1 using alternative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3200"/>
            </a:b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terna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if kind="magazine" then the content is a Magazine type.</a:t>
            </a:r>
            <a:br>
              <a:rPr sz="3200"/>
            </a:b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terna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if kind="book" then the content is a Book ty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Schema 1.1 became a standard 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ril 5, 2012 (the W3C calls it a “recommendation” not a standard, but they are the same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've examined two new features in XML Schema 1.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ility to express policies and rules using asser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ility to express conditional content using altern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4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New Feature: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Expressing Business-wide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ributes using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 Schema-wide Attribu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12" descr=""/>
          <p:cNvPicPr/>
          <p:nvPr/>
        </p:nvPicPr>
        <p:blipFill>
          <a:blip r:embed="rId1"/>
          <a:stretch/>
        </p:blipFill>
        <p:spPr>
          <a:xfrm>
            <a:off x="1539720" y="1547640"/>
            <a:ext cx="6191280" cy="507708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ice feature of HT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7"/>
          <p:cNvSpPr/>
          <p:nvPr/>
        </p:nvSpPr>
        <p:spPr>
          <a:xfrm flipV="1">
            <a:off x="4344840" y="3539880"/>
            <a:ext cx="951120" cy="84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8"/>
          <p:cNvSpPr/>
          <p:nvPr/>
        </p:nvSpPr>
        <p:spPr>
          <a:xfrm flipV="1">
            <a:off x="4348080" y="3819240"/>
            <a:ext cx="941400" cy="56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9"/>
          <p:cNvSpPr/>
          <p:nvPr/>
        </p:nvSpPr>
        <p:spPr>
          <a:xfrm>
            <a:off x="4356000" y="4392720"/>
            <a:ext cx="924120" cy="120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10"/>
          <p:cNvSpPr/>
          <p:nvPr/>
        </p:nvSpPr>
        <p:spPr>
          <a:xfrm>
            <a:off x="4348080" y="4392720"/>
            <a:ext cx="922320" cy="136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11"/>
          <p:cNvSpPr/>
          <p:nvPr/>
        </p:nvSpPr>
        <p:spPr>
          <a:xfrm>
            <a:off x="2270160" y="4113360"/>
            <a:ext cx="221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ttributes can be used with any HTML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4"/>
          <p:cNvSpPr/>
          <p:nvPr/>
        </p:nvSpPr>
        <p:spPr>
          <a:xfrm>
            <a:off x="2452680" y="2617920"/>
            <a:ext cx="4094280" cy="119124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 has a set of attributes that can be used throughout the document. That's n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ema-wide Attribu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XML Schema 1.1 you can create a set of attributes and identify them as schema-wide, which means that they apply to every element in the schema docu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4"/>
          <p:cNvSpPr/>
          <p:nvPr/>
        </p:nvSpPr>
        <p:spPr>
          <a:xfrm>
            <a:off x="2247840" y="2071800"/>
            <a:ext cx="4359240" cy="22885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ML Schema 1.0 if every element is to have, say, a "title" attribute then a title attribute declaration must be repeated on every element. That's not nice (and it's error pron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Fe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285480" y="2792520"/>
            <a:ext cx="8437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Times New Roman"/>
              </a:rPr>
              <a:t>defaultAttribute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4"/>
          <p:cNvSpPr/>
          <p:nvPr/>
        </p:nvSpPr>
        <p:spPr>
          <a:xfrm>
            <a:off x="457200" y="274680"/>
            <a:ext cx="846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ress Schema-wide Attributes using default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457200" y="183024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a-wide attributes are expressed in XML Schema 1.1 using defaultAttribute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3200"/>
            </a:b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faultAttribu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se attributes apply throughout the schema document: class, id, tit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've examined three new features in XML Schema 1.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ility to express policies and rules using asser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ility to express conditional content using altern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ility to define schema-wide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4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New Feature: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 Enable Business Change using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Open Cont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ology St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265560" y="5486400"/>
            <a:ext cx="2612880" cy="87624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268800" y="4575240"/>
            <a:ext cx="2612880" cy="87624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mesp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3252960" y="3664080"/>
            <a:ext cx="2612880" cy="87624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3255840" y="2752560"/>
            <a:ext cx="2613240" cy="87660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ML Schema 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3259080" y="1841400"/>
            <a:ext cx="2613240" cy="87624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ML Schema 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6326280" y="3284640"/>
            <a:ext cx="25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echnology assumes you know the technologies benea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.S. Con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in the U.S. Constitution it describes how it can be chang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r forefathers recognized that the world changes, and if the constitution doesn't adapt then it will ossify and be usel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they built into the Constitution mechanisms for how it can be chang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1965240" y="5940360"/>
            <a:ext cx="5805720" cy="7333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e section 3.1 of the following paper for a fascinating description of how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.S. Constitution has mechanisms for changing itself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microfinance.com/English/Papers/Meta-rules.pd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n Con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Schemas that can't adapt to a changing world will ossify and be usel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content is a mechanism for enabling schemas to cha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k Sell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've coordinated with your clients and agreed to provide them with this information about each boo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4"/>
          <p:cNvSpPr/>
          <p:nvPr/>
        </p:nvSpPr>
        <p:spPr>
          <a:xfrm>
            <a:off x="2196720" y="3578400"/>
            <a:ext cx="4655160" cy="4597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tle, Author, Date, ISBN, 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5"/>
          <p:cNvSpPr/>
          <p:nvPr/>
        </p:nvSpPr>
        <p:spPr>
          <a:xfrm>
            <a:off x="1760400" y="4896000"/>
            <a:ext cx="557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reate an XML Schema to express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passes … some clients request this additional informatio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- number of pag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- binding (hardcover or softcover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they want this information NOW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schema working group meets quarterly. Updates to support this new information are months a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designing your schemas with open content you will be able to add the requested new information to XML instance documents without waiting for the next quarterly schema mee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912960" y="4081320"/>
            <a:ext cx="5900760" cy="256284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Book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itle&gt;The Origin of Wealth&lt;/Titl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Author&gt;Eric D. Beinhocker&lt;/Autho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Pages&gt;527&lt;/NumPage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Date&gt;2006&lt;/Date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ISBN&gt;1-57851-777-X&lt;/ISB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Publisher&gt;Harvard Business School Press&lt;/Publish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Binding&gt;Hardcover&lt;/Binding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Book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AutoShape 6"/>
          <p:cNvSpPr/>
          <p:nvPr/>
        </p:nvSpPr>
        <p:spPr>
          <a:xfrm>
            <a:off x="1442880" y="1658880"/>
            <a:ext cx="2251080" cy="187344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8"/>
          <p:cNvSpPr/>
          <p:nvPr/>
        </p:nvSpPr>
        <p:spPr>
          <a:xfrm>
            <a:off x="2465280" y="3576600"/>
            <a:ext cx="0" cy="47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9"/>
          <p:cNvSpPr/>
          <p:nvPr/>
        </p:nvSpPr>
        <p:spPr>
          <a:xfrm>
            <a:off x="2433960" y="3532320"/>
            <a:ext cx="27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eate XML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10"/>
          <p:cNvSpPr/>
          <p:nvPr/>
        </p:nvSpPr>
        <p:spPr>
          <a:xfrm>
            <a:off x="5902560" y="2054160"/>
            <a:ext cx="637920" cy="4597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11"/>
          <p:cNvSpPr/>
          <p:nvPr/>
        </p:nvSpPr>
        <p:spPr>
          <a:xfrm>
            <a:off x="6153840" y="2743200"/>
            <a:ext cx="1468440" cy="4597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Freeform 12"/>
          <p:cNvSpPr/>
          <p:nvPr/>
        </p:nvSpPr>
        <p:spPr>
          <a:xfrm>
            <a:off x="4500720" y="2527200"/>
            <a:ext cx="1433520" cy="2556000"/>
          </a:xfrm>
          <a:custGeom>
            <a:avLst/>
            <a:gdLst>
              <a:gd name="textAreaLeft" fmla="*/ 0 w 1433520"/>
              <a:gd name="textAreaRight" fmla="*/ 1433880 w 1433520"/>
              <a:gd name="textAreaTop" fmla="*/ 0 h 2556000"/>
              <a:gd name="textAreaBottom" fmla="*/ 2556360 h 2556000"/>
            </a:gdLst>
            <a:ahLst/>
            <a:rect l="textAreaLeft" t="textAreaTop" r="textAreaRight" b="textAreaBottom"/>
            <a:pathLst>
              <a:path w="903" h="1610">
                <a:moveTo>
                  <a:pt x="886" y="0"/>
                </a:moveTo>
                <a:cubicBezTo>
                  <a:pt x="894" y="76"/>
                  <a:pt x="903" y="153"/>
                  <a:pt x="886" y="260"/>
                </a:cubicBezTo>
                <a:cubicBezTo>
                  <a:pt x="869" y="367"/>
                  <a:pt x="850" y="451"/>
                  <a:pt x="785" y="644"/>
                </a:cubicBezTo>
                <a:cubicBezTo>
                  <a:pt x="720" y="837"/>
                  <a:pt x="628" y="1257"/>
                  <a:pt x="497" y="1418"/>
                </a:cubicBezTo>
                <a:cubicBezTo>
                  <a:pt x="366" y="1579"/>
                  <a:pt x="183" y="1594"/>
                  <a:pt x="0" y="161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Freeform 14"/>
          <p:cNvSpPr/>
          <p:nvPr/>
        </p:nvSpPr>
        <p:spPr>
          <a:xfrm>
            <a:off x="4660920" y="3225960"/>
            <a:ext cx="1514520" cy="2968560"/>
          </a:xfrm>
          <a:custGeom>
            <a:avLst/>
            <a:gdLst>
              <a:gd name="textAreaLeft" fmla="*/ 0 w 1514520"/>
              <a:gd name="textAreaRight" fmla="*/ 1514880 w 1514520"/>
              <a:gd name="textAreaTop" fmla="*/ 0 h 2968560"/>
              <a:gd name="textAreaBottom" fmla="*/ 2968920 h 2968560"/>
            </a:gdLst>
            <a:ahLst/>
            <a:rect l="textAreaLeft" t="textAreaTop" r="textAreaRight" b="textAreaBottom"/>
            <a:pathLst>
              <a:path w="903" h="1610">
                <a:moveTo>
                  <a:pt x="886" y="0"/>
                </a:moveTo>
                <a:cubicBezTo>
                  <a:pt x="894" y="76"/>
                  <a:pt x="903" y="153"/>
                  <a:pt x="886" y="260"/>
                </a:cubicBezTo>
                <a:cubicBezTo>
                  <a:pt x="869" y="367"/>
                  <a:pt x="850" y="451"/>
                  <a:pt x="785" y="644"/>
                </a:cubicBezTo>
                <a:cubicBezTo>
                  <a:pt x="720" y="837"/>
                  <a:pt x="628" y="1257"/>
                  <a:pt x="497" y="1418"/>
                </a:cubicBezTo>
                <a:cubicBezTo>
                  <a:pt x="366" y="1579"/>
                  <a:pt x="183" y="1594"/>
                  <a:pt x="0" y="161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15"/>
          <p:cNvSpPr/>
          <p:nvPr/>
        </p:nvSpPr>
        <p:spPr>
          <a:xfrm>
            <a:off x="5106960" y="2575080"/>
            <a:ext cx="67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Group 16"/>
          <p:cNvGrpSpPr/>
          <p:nvPr/>
        </p:nvGrpSpPr>
        <p:grpSpPr>
          <a:xfrm>
            <a:off x="8132760" y="4305240"/>
            <a:ext cx="474840" cy="838440"/>
            <a:chOff x="8132760" y="4305240"/>
            <a:chExt cx="474840" cy="838440"/>
          </a:xfrm>
        </p:grpSpPr>
        <p:sp>
          <p:nvSpPr>
            <p:cNvPr id="396" name="Oval 17"/>
            <p:cNvSpPr/>
            <p:nvPr/>
          </p:nvSpPr>
          <p:spPr>
            <a:xfrm>
              <a:off x="8247240" y="4305240"/>
              <a:ext cx="231840" cy="231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18"/>
            <p:cNvSpPr/>
            <p:nvPr/>
          </p:nvSpPr>
          <p:spPr>
            <a:xfrm>
              <a:off x="8359920" y="4540320"/>
              <a:ext cx="324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19"/>
            <p:cNvSpPr/>
            <p:nvPr/>
          </p:nvSpPr>
          <p:spPr>
            <a:xfrm flipH="1" flipV="1">
              <a:off x="8132760" y="4579920"/>
              <a:ext cx="230400" cy="1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20"/>
            <p:cNvSpPr/>
            <p:nvPr/>
          </p:nvSpPr>
          <p:spPr>
            <a:xfrm flipV="1">
              <a:off x="8363160" y="4595760"/>
              <a:ext cx="24444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21"/>
            <p:cNvSpPr/>
            <p:nvPr/>
          </p:nvSpPr>
          <p:spPr>
            <a:xfrm flipH="1">
              <a:off x="8247240" y="4883040"/>
              <a:ext cx="115920" cy="26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22"/>
            <p:cNvSpPr/>
            <p:nvPr/>
          </p:nvSpPr>
          <p:spPr>
            <a:xfrm>
              <a:off x="8366400" y="4886280"/>
              <a:ext cx="11412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Group 23"/>
          <p:cNvGrpSpPr/>
          <p:nvPr/>
        </p:nvGrpSpPr>
        <p:grpSpPr>
          <a:xfrm>
            <a:off x="8572320" y="4718160"/>
            <a:ext cx="474480" cy="837720"/>
            <a:chOff x="8572320" y="4718160"/>
            <a:chExt cx="474480" cy="837720"/>
          </a:xfrm>
        </p:grpSpPr>
        <p:sp>
          <p:nvSpPr>
            <p:cNvPr id="403" name="Oval 24"/>
            <p:cNvSpPr/>
            <p:nvPr/>
          </p:nvSpPr>
          <p:spPr>
            <a:xfrm>
              <a:off x="8686800" y="4718160"/>
              <a:ext cx="231480" cy="23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25"/>
            <p:cNvSpPr/>
            <p:nvPr/>
          </p:nvSpPr>
          <p:spPr>
            <a:xfrm>
              <a:off x="8799480" y="4952880"/>
              <a:ext cx="2880" cy="35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26"/>
            <p:cNvSpPr/>
            <p:nvPr/>
          </p:nvSpPr>
          <p:spPr>
            <a:xfrm flipH="1" flipV="1">
              <a:off x="8572320" y="4992120"/>
              <a:ext cx="230040" cy="12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27"/>
            <p:cNvSpPr/>
            <p:nvPr/>
          </p:nvSpPr>
          <p:spPr>
            <a:xfrm flipV="1">
              <a:off x="8802720" y="5007960"/>
              <a:ext cx="24408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28"/>
            <p:cNvSpPr/>
            <p:nvPr/>
          </p:nvSpPr>
          <p:spPr>
            <a:xfrm flipH="1">
              <a:off x="8686440" y="5295600"/>
              <a:ext cx="11556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29"/>
            <p:cNvSpPr/>
            <p:nvPr/>
          </p:nvSpPr>
          <p:spPr>
            <a:xfrm>
              <a:off x="8805960" y="5298840"/>
              <a:ext cx="113760" cy="2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30"/>
          <p:cNvGrpSpPr/>
          <p:nvPr/>
        </p:nvGrpSpPr>
        <p:grpSpPr>
          <a:xfrm>
            <a:off x="8177040" y="5246640"/>
            <a:ext cx="474840" cy="837720"/>
            <a:chOff x="8177040" y="5246640"/>
            <a:chExt cx="474840" cy="837720"/>
          </a:xfrm>
        </p:grpSpPr>
        <p:sp>
          <p:nvSpPr>
            <p:cNvPr id="410" name="Oval 31"/>
            <p:cNvSpPr/>
            <p:nvPr/>
          </p:nvSpPr>
          <p:spPr>
            <a:xfrm>
              <a:off x="8291520" y="5246640"/>
              <a:ext cx="231840" cy="23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32"/>
            <p:cNvSpPr/>
            <p:nvPr/>
          </p:nvSpPr>
          <p:spPr>
            <a:xfrm>
              <a:off x="8404200" y="5481360"/>
              <a:ext cx="3240" cy="35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33"/>
            <p:cNvSpPr/>
            <p:nvPr/>
          </p:nvSpPr>
          <p:spPr>
            <a:xfrm flipH="1" flipV="1">
              <a:off x="8177040" y="5520600"/>
              <a:ext cx="230400" cy="12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34"/>
            <p:cNvSpPr/>
            <p:nvPr/>
          </p:nvSpPr>
          <p:spPr>
            <a:xfrm flipV="1">
              <a:off x="8407440" y="5536440"/>
              <a:ext cx="24444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35"/>
            <p:cNvSpPr/>
            <p:nvPr/>
          </p:nvSpPr>
          <p:spPr>
            <a:xfrm flipH="1">
              <a:off x="8291520" y="5824080"/>
              <a:ext cx="11592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36"/>
            <p:cNvSpPr/>
            <p:nvPr/>
          </p:nvSpPr>
          <p:spPr>
            <a:xfrm>
              <a:off x="8410680" y="5827320"/>
              <a:ext cx="114120" cy="2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" name="Line 37"/>
          <p:cNvSpPr/>
          <p:nvPr/>
        </p:nvSpPr>
        <p:spPr>
          <a:xfrm>
            <a:off x="6902280" y="5191200"/>
            <a:ext cx="125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38"/>
          <p:cNvSpPr/>
          <p:nvPr/>
        </p:nvSpPr>
        <p:spPr>
          <a:xfrm>
            <a:off x="6775200" y="4411800"/>
            <a:ext cx="134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liver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(conclud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w data is delivered to the clients in a timely fash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the next quarterly meeting the XML Schema is updated: the information provided for each book is title, author, date, ISBN, publisher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umPag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ind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Fe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5"/>
          <p:cNvSpPr/>
          <p:nvPr/>
        </p:nvSpPr>
        <p:spPr>
          <a:xfrm>
            <a:off x="1207800" y="2792520"/>
            <a:ext cx="641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Times New Roman"/>
              </a:rPr>
              <a:t>openConten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4"/>
          <p:cNvSpPr/>
          <p:nvPr/>
        </p:nvSpPr>
        <p:spPr>
          <a:xfrm>
            <a:off x="457200" y="274680"/>
            <a:ext cx="846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ress Schema-wide Attributes using openCont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457200" y="1941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is enabled in XML Schema 1.1 using openContent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3200"/>
            </a:b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penCont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permit new (client-requested) data to be interleaved among the standardized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've examined four new features in XML Schema 1.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ility to express policies and rules using asser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ility to express conditional content using altern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ility to define schema-wide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ility to facilitate change using open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6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Review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Purpose of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XML Sche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4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New Feature: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Enabling Departments to 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ustomize Corporate Data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using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 override and err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sh I could customize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times I've used a tool and thought, "Boy, if only I could open up this tool and make a few tweaks, then it would be perfect for my needs.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rettably the tool is not modifiable and so I'm stuck using something that's not quite what I ne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said, using the tool is a lot better than creating a custom tool from scrat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changeable schema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be customize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85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Schema 1.1 provides two mechanisms for customizing another schema without modifying 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r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r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AutoShape 5"/>
          <p:cNvSpPr/>
          <p:nvPr/>
        </p:nvSpPr>
        <p:spPr>
          <a:xfrm>
            <a:off x="1846440" y="1954080"/>
            <a:ext cx="2250720" cy="162252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m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AutoShape 6"/>
          <p:cNvSpPr/>
          <p:nvPr/>
        </p:nvSpPr>
        <p:spPr>
          <a:xfrm>
            <a:off x="1782720" y="4862520"/>
            <a:ext cx="2394000" cy="191772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ride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his cont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k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m 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7"/>
          <p:cNvSpPr/>
          <p:nvPr/>
        </p:nvSpPr>
        <p:spPr>
          <a:xfrm flipV="1">
            <a:off x="2581200" y="3603600"/>
            <a:ext cx="0" cy="83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8"/>
          <p:cNvSpPr/>
          <p:nvPr/>
        </p:nvSpPr>
        <p:spPr>
          <a:xfrm>
            <a:off x="2517120" y="379404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9"/>
          <p:cNvSpPr/>
          <p:nvPr/>
        </p:nvSpPr>
        <p:spPr>
          <a:xfrm>
            <a:off x="4572000" y="4913280"/>
            <a:ext cx="441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chema reuses the corporate schema, but customizes "meeting" with the data that is particular to conference meet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0"/>
          <p:cNvSpPr/>
          <p:nvPr/>
        </p:nvSpPr>
        <p:spPr>
          <a:xfrm>
            <a:off x="1878480" y="1479600"/>
            <a:ext cx="20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ice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11"/>
          <p:cNvSpPr/>
          <p:nvPr/>
        </p:nvSpPr>
        <p:spPr>
          <a:xfrm>
            <a:off x="1734840" y="4340160"/>
            <a:ext cx="26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erence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AutoShape 12"/>
          <p:cNvSpPr/>
          <p:nvPr/>
        </p:nvSpPr>
        <p:spPr>
          <a:xfrm>
            <a:off x="4456080" y="1631880"/>
            <a:ext cx="366840" cy="2052720"/>
          </a:xfrm>
          <a:custGeom>
            <a:avLst/>
            <a:gdLst>
              <a:gd name="textAreaLeft" fmla="*/ 0 w 366840"/>
              <a:gd name="textAreaRight" fmla="*/ 132480 w 366840"/>
              <a:gd name="textAreaTop" fmla="*/ 53280 h 2052720"/>
              <a:gd name="textAreaBottom" fmla="*/ 1999440 h 20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3"/>
          <p:cNvSpPr/>
          <p:nvPr/>
        </p:nvSpPr>
        <p:spPr>
          <a:xfrm>
            <a:off x="5006160" y="2403360"/>
            <a:ext cx="355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porate schema, can't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change 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changeable sche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4"/>
          <p:cNvSpPr/>
          <p:nvPr/>
        </p:nvSpPr>
        <p:spPr>
          <a:xfrm>
            <a:off x="1846440" y="1954080"/>
            <a:ext cx="1641240" cy="162252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m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ad-on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AutoShape 6"/>
          <p:cNvSpPr/>
          <p:nvPr/>
        </p:nvSpPr>
        <p:spPr>
          <a:xfrm>
            <a:off x="1782720" y="4643280"/>
            <a:ext cx="1641600" cy="162252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m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7"/>
          <p:cNvSpPr/>
          <p:nvPr/>
        </p:nvSpPr>
        <p:spPr>
          <a:xfrm flipV="1">
            <a:off x="2581200" y="3603240"/>
            <a:ext cx="0" cy="995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8"/>
          <p:cNvSpPr/>
          <p:nvPr/>
        </p:nvSpPr>
        <p:spPr>
          <a:xfrm>
            <a:off x="2563200" y="388296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9"/>
          <p:cNvSpPr/>
          <p:nvPr/>
        </p:nvSpPr>
        <p:spPr>
          <a:xfrm>
            <a:off x="3587040" y="4653000"/>
            <a:ext cx="49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ma 2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r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ems in Schem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4"/>
          <p:cNvSpPr/>
          <p:nvPr/>
        </p:nvSpPr>
        <p:spPr>
          <a:xfrm>
            <a:off x="1283760" y="3324240"/>
            <a:ext cx="3404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Employee dept="_________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Employe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1571760" y="3705120"/>
            <a:ext cx="3093840" cy="1289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6"/>
          <p:cNvSpPr/>
          <p:nvPr/>
        </p:nvSpPr>
        <p:spPr>
          <a:xfrm>
            <a:off x="3753000" y="2890800"/>
            <a:ext cx="0" cy="55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3559320" y="1839960"/>
            <a:ext cx="345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t's HR then the content m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n HR type. If it's IT then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 must be an IT typ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 flipH="1">
            <a:off x="3189240" y="2890800"/>
            <a:ext cx="56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9"/>
          <p:cNvSpPr/>
          <p:nvPr/>
        </p:nvSpPr>
        <p:spPr>
          <a:xfrm flipV="1">
            <a:off x="3176640" y="20142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3176640" y="200196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11"/>
          <p:cNvSpPr/>
          <p:nvPr/>
        </p:nvSpPr>
        <p:spPr>
          <a:xfrm flipH="1">
            <a:off x="4741920" y="4206960"/>
            <a:ext cx="3432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12"/>
          <p:cNvSpPr/>
          <p:nvPr/>
        </p:nvSpPr>
        <p:spPr>
          <a:xfrm flipV="1">
            <a:off x="5964120" y="1603440"/>
            <a:ext cx="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13"/>
          <p:cNvSpPr/>
          <p:nvPr/>
        </p:nvSpPr>
        <p:spPr>
          <a:xfrm>
            <a:off x="5964120" y="15955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14"/>
          <p:cNvSpPr/>
          <p:nvPr/>
        </p:nvSpPr>
        <p:spPr>
          <a:xfrm>
            <a:off x="8174160" y="1612800"/>
            <a:ext cx="0" cy="259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15"/>
          <p:cNvSpPr/>
          <p:nvPr/>
        </p:nvSpPr>
        <p:spPr>
          <a:xfrm>
            <a:off x="1412280" y="5973840"/>
            <a:ext cx="59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rporate schema specifies t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this earli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R Depar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R department wants to reuse the corporate schema, but prohibit IT cont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4"/>
          <p:cNvSpPr/>
          <p:nvPr/>
        </p:nvSpPr>
        <p:spPr>
          <a:xfrm>
            <a:off x="1249200" y="2952720"/>
            <a:ext cx="1641600" cy="130824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po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AutoShape 5"/>
          <p:cNvSpPr/>
          <p:nvPr/>
        </p:nvSpPr>
        <p:spPr>
          <a:xfrm>
            <a:off x="1185840" y="5327640"/>
            <a:ext cx="1641600" cy="120960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6"/>
          <p:cNvSpPr/>
          <p:nvPr/>
        </p:nvSpPr>
        <p:spPr>
          <a:xfrm flipV="1">
            <a:off x="1984320" y="4287600"/>
            <a:ext cx="0" cy="995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7"/>
          <p:cNvSpPr/>
          <p:nvPr/>
        </p:nvSpPr>
        <p:spPr>
          <a:xfrm>
            <a:off x="1966320" y="45673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8"/>
          <p:cNvSpPr/>
          <p:nvPr/>
        </p:nvSpPr>
        <p:spPr>
          <a:xfrm>
            <a:off x="3204720" y="4716360"/>
            <a:ext cx="3404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Employee dept="_________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Employe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9"/>
          <p:cNvSpPr/>
          <p:nvPr/>
        </p:nvSpPr>
        <p:spPr>
          <a:xfrm>
            <a:off x="3492360" y="5097600"/>
            <a:ext cx="3094200" cy="128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10"/>
          <p:cNvSpPr/>
          <p:nvPr/>
        </p:nvSpPr>
        <p:spPr>
          <a:xfrm>
            <a:off x="5607000" y="4375080"/>
            <a:ext cx="0" cy="420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11"/>
          <p:cNvSpPr/>
          <p:nvPr/>
        </p:nvSpPr>
        <p:spPr>
          <a:xfrm>
            <a:off x="5384520" y="3863880"/>
            <a:ext cx="29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ept="IT" the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Line 12"/>
          <p:cNvSpPr/>
          <p:nvPr/>
        </p:nvSpPr>
        <p:spPr>
          <a:xfrm flipV="1">
            <a:off x="7854840" y="4362120"/>
            <a:ext cx="0" cy="67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13"/>
          <p:cNvSpPr/>
          <p:nvPr/>
        </p:nvSpPr>
        <p:spPr>
          <a:xfrm>
            <a:off x="7272720" y="4929120"/>
            <a:ext cx="193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 if d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ccident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gned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Fe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5"/>
          <p:cNvSpPr/>
          <p:nvPr/>
        </p:nvSpPr>
        <p:spPr>
          <a:xfrm>
            <a:off x="2371320" y="2792520"/>
            <a:ext cx="424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Times New Roman"/>
              </a:rPr>
              <a:t>overrid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Fe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5"/>
          <p:cNvSpPr/>
          <p:nvPr/>
        </p:nvSpPr>
        <p:spPr>
          <a:xfrm>
            <a:off x="3181680" y="2792520"/>
            <a:ext cx="2547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Times New Roman"/>
              </a:rPr>
              <a:t>error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4"/>
          <p:cNvSpPr/>
          <p:nvPr/>
        </p:nvSpPr>
        <p:spPr>
          <a:xfrm>
            <a:off x="457200" y="274680"/>
            <a:ext cx="846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able Customization u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ride and err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customization is expressed in XML Schema 1.1 using override and error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3200"/>
            </a:b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verri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replace items in the corporate schema with your own data (and without changing the corporate schem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rr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disallow the use of certain items in the corporate sche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uses of 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685800" y="1981080"/>
            <a:ext cx="3809880" cy="30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as a temporary transport vehic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soon a the XML gets to its destination the data is extracted and put into a permanent storage mechanism (such as a database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s operate on the data in the permanent stora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as permanent storag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 operate directly on the XM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Group 7"/>
          <p:cNvGrpSpPr/>
          <p:nvPr/>
        </p:nvGrpSpPr>
        <p:grpSpPr>
          <a:xfrm>
            <a:off x="6148440" y="4232160"/>
            <a:ext cx="1437480" cy="1432440"/>
            <a:chOff x="6148440" y="4232160"/>
            <a:chExt cx="1437480" cy="1432440"/>
          </a:xfrm>
        </p:grpSpPr>
        <p:sp>
          <p:nvSpPr>
            <p:cNvPr id="69" name="Rectangle 8"/>
            <p:cNvSpPr/>
            <p:nvPr/>
          </p:nvSpPr>
          <p:spPr>
            <a:xfrm>
              <a:off x="6148440" y="4680000"/>
              <a:ext cx="460440" cy="56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9"/>
            <p:cNvSpPr/>
            <p:nvPr/>
          </p:nvSpPr>
          <p:spPr>
            <a:xfrm>
              <a:off x="7026840" y="4232160"/>
              <a:ext cx="54936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10"/>
            <p:cNvSpPr/>
            <p:nvPr/>
          </p:nvSpPr>
          <p:spPr>
            <a:xfrm>
              <a:off x="7036560" y="4741920"/>
              <a:ext cx="54936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11"/>
            <p:cNvSpPr/>
            <p:nvPr/>
          </p:nvSpPr>
          <p:spPr>
            <a:xfrm>
              <a:off x="7031520" y="5265720"/>
              <a:ext cx="54936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12"/>
            <p:cNvSpPr/>
            <p:nvPr/>
          </p:nvSpPr>
          <p:spPr>
            <a:xfrm flipH="1">
              <a:off x="6635880" y="4433760"/>
              <a:ext cx="388800" cy="3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13"/>
            <p:cNvSpPr/>
            <p:nvPr/>
          </p:nvSpPr>
          <p:spPr>
            <a:xfrm flipH="1">
              <a:off x="6621480" y="4940280"/>
              <a:ext cx="38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14"/>
            <p:cNvSpPr/>
            <p:nvPr/>
          </p:nvSpPr>
          <p:spPr>
            <a:xfrm flipH="1" flipV="1">
              <a:off x="6607080" y="5127120"/>
              <a:ext cx="40320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Group 15"/>
          <p:cNvGrpSpPr/>
          <p:nvPr/>
        </p:nvGrpSpPr>
        <p:grpSpPr>
          <a:xfrm>
            <a:off x="563400" y="5051520"/>
            <a:ext cx="4398120" cy="1432080"/>
            <a:chOff x="563400" y="5051520"/>
            <a:chExt cx="4398120" cy="1432080"/>
          </a:xfrm>
        </p:grpSpPr>
        <p:sp>
          <p:nvSpPr>
            <p:cNvPr id="77" name="Rectangle 16"/>
            <p:cNvSpPr/>
            <p:nvPr/>
          </p:nvSpPr>
          <p:spPr>
            <a:xfrm>
              <a:off x="563400" y="5456160"/>
              <a:ext cx="460440" cy="56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17"/>
            <p:cNvSpPr/>
            <p:nvPr/>
          </p:nvSpPr>
          <p:spPr>
            <a:xfrm>
              <a:off x="1125360" y="5773680"/>
              <a:ext cx="112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2359080" y="5465880"/>
              <a:ext cx="460440" cy="56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AutoShape 19"/>
            <p:cNvSpPr/>
            <p:nvPr/>
          </p:nvSpPr>
          <p:spPr>
            <a:xfrm>
              <a:off x="3463920" y="5353200"/>
              <a:ext cx="533520" cy="779400"/>
            </a:xfrm>
            <a:prstGeom prst="can">
              <a:avLst>
                <a:gd name="adj" fmla="val 25000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20"/>
            <p:cNvSpPr/>
            <p:nvPr/>
          </p:nvSpPr>
          <p:spPr>
            <a:xfrm flipV="1">
              <a:off x="2843280" y="5614560"/>
              <a:ext cx="604800" cy="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21"/>
            <p:cNvSpPr/>
            <p:nvPr/>
          </p:nvSpPr>
          <p:spPr>
            <a:xfrm>
              <a:off x="2843280" y="5729400"/>
              <a:ext cx="604800" cy="5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22"/>
            <p:cNvSpPr/>
            <p:nvPr/>
          </p:nvSpPr>
          <p:spPr>
            <a:xfrm>
              <a:off x="2828880" y="5830920"/>
              <a:ext cx="604800" cy="13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23"/>
            <p:cNvSpPr/>
            <p:nvPr/>
          </p:nvSpPr>
          <p:spPr>
            <a:xfrm>
              <a:off x="2779560" y="60753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"shred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24"/>
            <p:cNvSpPr/>
            <p:nvPr/>
          </p:nvSpPr>
          <p:spPr>
            <a:xfrm>
              <a:off x="4402800" y="5051520"/>
              <a:ext cx="54936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25"/>
            <p:cNvSpPr/>
            <p:nvPr/>
          </p:nvSpPr>
          <p:spPr>
            <a:xfrm>
              <a:off x="4412160" y="5560920"/>
              <a:ext cx="54936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26"/>
            <p:cNvSpPr/>
            <p:nvPr/>
          </p:nvSpPr>
          <p:spPr>
            <a:xfrm>
              <a:off x="4407480" y="6084720"/>
              <a:ext cx="54936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27"/>
            <p:cNvSpPr/>
            <p:nvPr/>
          </p:nvSpPr>
          <p:spPr>
            <a:xfrm flipH="1">
              <a:off x="4011120" y="5253120"/>
              <a:ext cx="389160" cy="3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28"/>
            <p:cNvSpPr/>
            <p:nvPr/>
          </p:nvSpPr>
          <p:spPr>
            <a:xfrm flipH="1">
              <a:off x="3997440" y="5759280"/>
              <a:ext cx="38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29"/>
            <p:cNvSpPr/>
            <p:nvPr/>
          </p:nvSpPr>
          <p:spPr>
            <a:xfrm flipH="1" flipV="1">
              <a:off x="3983040" y="5946480"/>
              <a:ext cx="40320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30"/>
            <p:cNvSpPr/>
            <p:nvPr/>
          </p:nvSpPr>
          <p:spPr>
            <a:xfrm>
              <a:off x="1063440" y="5800680"/>
              <a:ext cx="118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hip the X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've examined five new features in XML Schema 1.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ility to express policies and rules using asser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ility to express conditional content using altern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ility to define schema-wide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ility to facilitate change using open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ility to customize schemas that ordinarily are unchangeable, using override and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4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New Feature: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Enabling Dissemination of 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New Announcements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using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 inherited attribu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AutoShape 4"/>
          <p:cNvSpPr/>
          <p:nvPr/>
        </p:nvSpPr>
        <p:spPr>
          <a:xfrm>
            <a:off x="1081080" y="528480"/>
            <a:ext cx="6095880" cy="59706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5"/>
          <p:cNvSpPr/>
          <p:nvPr/>
        </p:nvSpPr>
        <p:spPr>
          <a:xfrm>
            <a:off x="1254600" y="549360"/>
            <a:ext cx="4195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Merchandise discount="10%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Merchandis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Oval 6"/>
          <p:cNvSpPr/>
          <p:nvPr/>
        </p:nvSpPr>
        <p:spPr>
          <a:xfrm>
            <a:off x="3060720" y="368280"/>
            <a:ext cx="2357280" cy="868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8"/>
          <p:cNvSpPr/>
          <p:nvPr/>
        </p:nvSpPr>
        <p:spPr>
          <a:xfrm>
            <a:off x="5432400" y="393840"/>
            <a:ext cx="34704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nt this discount information to be visible (disseminated) throughout the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9"/>
          <p:cNvSpPr/>
          <p:nvPr/>
        </p:nvSpPr>
        <p:spPr>
          <a:xfrm>
            <a:off x="2292120" y="2349360"/>
            <a:ext cx="1305360" cy="33858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Coat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Coat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hirt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Shi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ant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P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AutoShape 10"/>
          <p:cNvSpPr/>
          <p:nvPr/>
        </p:nvSpPr>
        <p:spPr>
          <a:xfrm rot="10800000">
            <a:off x="3930480" y="2140920"/>
            <a:ext cx="2849760" cy="1523880"/>
          </a:xfrm>
          <a:custGeom>
            <a:avLst/>
            <a:gdLst>
              <a:gd name="textAreaLeft" fmla="*/ 1639440 w 2849760"/>
              <a:gd name="textAreaRight" fmla="*/ 2404800 w 2849760"/>
              <a:gd name="textAreaTop" fmla="*/ 205200 h 1523880"/>
              <a:gd name="textAreaBottom" fmla="*/ 65232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AutoShape 4"/>
          <p:cNvSpPr/>
          <p:nvPr/>
        </p:nvSpPr>
        <p:spPr>
          <a:xfrm>
            <a:off x="1030320" y="528480"/>
            <a:ext cx="6095880" cy="59706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Oval 5"/>
          <p:cNvSpPr/>
          <p:nvPr/>
        </p:nvSpPr>
        <p:spPr>
          <a:xfrm>
            <a:off x="3009960" y="368280"/>
            <a:ext cx="2357280" cy="868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6"/>
          <p:cNvSpPr/>
          <p:nvPr/>
        </p:nvSpPr>
        <p:spPr>
          <a:xfrm>
            <a:off x="5381640" y="393840"/>
            <a:ext cx="33656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.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ant this discount attribute to be "inherited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7"/>
          <p:cNvSpPr/>
          <p:nvPr/>
        </p:nvSpPr>
        <p:spPr>
          <a:xfrm>
            <a:off x="1203840" y="549360"/>
            <a:ext cx="4195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Merchandise discount="10%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Merchandis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8"/>
          <p:cNvSpPr/>
          <p:nvPr/>
        </p:nvSpPr>
        <p:spPr>
          <a:xfrm>
            <a:off x="2240640" y="2349360"/>
            <a:ext cx="1323720" cy="33858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Coat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Coat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hirt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Shirt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ant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Pant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AutoShape 4"/>
          <p:cNvSpPr/>
          <p:nvPr/>
        </p:nvSpPr>
        <p:spPr>
          <a:xfrm>
            <a:off x="1533600" y="528480"/>
            <a:ext cx="6095880" cy="59706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5"/>
          <p:cNvSpPr/>
          <p:nvPr/>
        </p:nvSpPr>
        <p:spPr>
          <a:xfrm>
            <a:off x="1707840" y="549360"/>
            <a:ext cx="3548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Contract language="FR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Contrac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Oval 6"/>
          <p:cNvSpPr/>
          <p:nvPr/>
        </p:nvSpPr>
        <p:spPr>
          <a:xfrm>
            <a:off x="2998800" y="368280"/>
            <a:ext cx="2070000" cy="866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5256360" y="393840"/>
            <a:ext cx="35226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nt this language information to be visible (disseminated) throughout the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8"/>
          <p:cNvSpPr/>
          <p:nvPr/>
        </p:nvSpPr>
        <p:spPr>
          <a:xfrm>
            <a:off x="2740680" y="2349360"/>
            <a:ext cx="2765520" cy="33858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reign-Releas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Foreign-Releas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tate-Departm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State-Departm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Lega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Lega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AutoShape 9"/>
          <p:cNvSpPr/>
          <p:nvPr/>
        </p:nvSpPr>
        <p:spPr>
          <a:xfrm rot="10800000">
            <a:off x="5567400" y="2141280"/>
            <a:ext cx="1665360" cy="1506600"/>
          </a:xfrm>
          <a:custGeom>
            <a:avLst/>
            <a:gdLst>
              <a:gd name="textAreaLeft" fmla="*/ 958320 w 1665360"/>
              <a:gd name="textAreaRight" fmla="*/ 1405440 w 1665360"/>
              <a:gd name="textAreaTop" fmla="*/ 203040 h 1506600"/>
              <a:gd name="textAreaBottom" fmla="*/ 644760 h 15066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AutoShape 4"/>
          <p:cNvSpPr/>
          <p:nvPr/>
        </p:nvSpPr>
        <p:spPr>
          <a:xfrm>
            <a:off x="1533600" y="528480"/>
            <a:ext cx="6095880" cy="59706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1707840" y="549360"/>
            <a:ext cx="3548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Contract language="FR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Contrac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Oval 6"/>
          <p:cNvSpPr/>
          <p:nvPr/>
        </p:nvSpPr>
        <p:spPr>
          <a:xfrm>
            <a:off x="2998800" y="368280"/>
            <a:ext cx="2070000" cy="866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5284800" y="393840"/>
            <a:ext cx="33656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.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ant this language attribute to be "inherited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8"/>
          <p:cNvSpPr/>
          <p:nvPr/>
        </p:nvSpPr>
        <p:spPr>
          <a:xfrm>
            <a:off x="2740680" y="2349360"/>
            <a:ext cx="2765520" cy="33858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reign-Releas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Foreign-Releas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tate-Departm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State-Departm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Lega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Lega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Fe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6"/>
          <p:cNvSpPr/>
          <p:nvPr/>
        </p:nvSpPr>
        <p:spPr>
          <a:xfrm>
            <a:off x="1837440" y="2792520"/>
            <a:ext cx="539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Times New Roman"/>
              </a:rPr>
              <a:t>inherita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4"/>
          <p:cNvSpPr/>
          <p:nvPr/>
        </p:nvSpPr>
        <p:spPr>
          <a:xfrm>
            <a:off x="322200" y="274680"/>
            <a:ext cx="859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able Information Dissemin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using inheritable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5"/>
          <p:cNvSpPr/>
          <p:nvPr/>
        </p:nvSpPr>
        <p:spPr>
          <a:xfrm>
            <a:off x="457200" y="1925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the dissemination of information is expressed in XML Schema 1.1 using inheritable attribute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heri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is attribute can be viewed and used from here on 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've examined six new features in XML Schema 1.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bility to express policies and rules using asser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bility to express conditional content using 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bility to define schema-wide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bility to facilitate change using open 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bility to customize schemas that ordinarily are unchangeable, using override and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bility to disseminate information within a document using inheritable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4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New Feature: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Enabling User-Friendly Arrangement of Information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using "all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ML as a temporar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port vehi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4"/>
          <p:cNvGrpSpPr/>
          <p:nvPr/>
        </p:nvGrpSpPr>
        <p:grpSpPr>
          <a:xfrm>
            <a:off x="1898640" y="2101680"/>
            <a:ext cx="4398120" cy="1432080"/>
            <a:chOff x="1898640" y="2101680"/>
            <a:chExt cx="4398120" cy="1432080"/>
          </a:xfrm>
        </p:grpSpPr>
        <p:sp>
          <p:nvSpPr>
            <p:cNvPr id="94" name="Rectangle 5"/>
            <p:cNvSpPr/>
            <p:nvPr/>
          </p:nvSpPr>
          <p:spPr>
            <a:xfrm>
              <a:off x="1898640" y="2506320"/>
              <a:ext cx="460440" cy="56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6"/>
            <p:cNvSpPr/>
            <p:nvPr/>
          </p:nvSpPr>
          <p:spPr>
            <a:xfrm>
              <a:off x="2460600" y="2823840"/>
              <a:ext cx="112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7"/>
            <p:cNvSpPr/>
            <p:nvPr/>
          </p:nvSpPr>
          <p:spPr>
            <a:xfrm>
              <a:off x="3694320" y="2516040"/>
              <a:ext cx="460440" cy="56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AutoShape 8"/>
            <p:cNvSpPr/>
            <p:nvPr/>
          </p:nvSpPr>
          <p:spPr>
            <a:xfrm>
              <a:off x="4799160" y="2403360"/>
              <a:ext cx="533520" cy="779400"/>
            </a:xfrm>
            <a:prstGeom prst="can">
              <a:avLst>
                <a:gd name="adj" fmla="val 25000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9"/>
            <p:cNvSpPr/>
            <p:nvPr/>
          </p:nvSpPr>
          <p:spPr>
            <a:xfrm flipV="1">
              <a:off x="4178520" y="2664720"/>
              <a:ext cx="604800" cy="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10"/>
            <p:cNvSpPr/>
            <p:nvPr/>
          </p:nvSpPr>
          <p:spPr>
            <a:xfrm>
              <a:off x="4178520" y="2779560"/>
              <a:ext cx="604800" cy="5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11"/>
            <p:cNvSpPr/>
            <p:nvPr/>
          </p:nvSpPr>
          <p:spPr>
            <a:xfrm>
              <a:off x="4164120" y="2881080"/>
              <a:ext cx="604800" cy="13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12"/>
            <p:cNvSpPr/>
            <p:nvPr/>
          </p:nvSpPr>
          <p:spPr>
            <a:xfrm>
              <a:off x="4114800" y="3125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"shred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13"/>
            <p:cNvSpPr/>
            <p:nvPr/>
          </p:nvSpPr>
          <p:spPr>
            <a:xfrm>
              <a:off x="5738040" y="2101680"/>
              <a:ext cx="54936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14"/>
            <p:cNvSpPr/>
            <p:nvPr/>
          </p:nvSpPr>
          <p:spPr>
            <a:xfrm>
              <a:off x="5747400" y="2611080"/>
              <a:ext cx="54936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Text Box 15"/>
            <p:cNvSpPr/>
            <p:nvPr/>
          </p:nvSpPr>
          <p:spPr>
            <a:xfrm>
              <a:off x="5742720" y="3134880"/>
              <a:ext cx="54936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16"/>
            <p:cNvSpPr/>
            <p:nvPr/>
          </p:nvSpPr>
          <p:spPr>
            <a:xfrm flipH="1">
              <a:off x="5346360" y="2303280"/>
              <a:ext cx="389160" cy="3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17"/>
            <p:cNvSpPr/>
            <p:nvPr/>
          </p:nvSpPr>
          <p:spPr>
            <a:xfrm flipH="1">
              <a:off x="5332680" y="2809440"/>
              <a:ext cx="38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18"/>
            <p:cNvSpPr/>
            <p:nvPr/>
          </p:nvSpPr>
          <p:spPr>
            <a:xfrm flipH="1" flipV="1">
              <a:off x="5318280" y="2996640"/>
              <a:ext cx="40320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19"/>
            <p:cNvSpPr/>
            <p:nvPr/>
          </p:nvSpPr>
          <p:spPr>
            <a:xfrm>
              <a:off x="2398680" y="2850840"/>
              <a:ext cx="118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hip the X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Line 20"/>
          <p:cNvSpPr/>
          <p:nvPr/>
        </p:nvSpPr>
        <p:spPr>
          <a:xfrm flipH="1" flipV="1">
            <a:off x="2197080" y="3155760"/>
            <a:ext cx="56376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21"/>
          <p:cNvSpPr/>
          <p:nvPr/>
        </p:nvSpPr>
        <p:spPr>
          <a:xfrm flipV="1">
            <a:off x="3244680" y="3164040"/>
            <a:ext cx="528840" cy="11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2"/>
          <p:cNvSpPr/>
          <p:nvPr/>
        </p:nvSpPr>
        <p:spPr>
          <a:xfrm>
            <a:off x="2552760" y="4295880"/>
            <a:ext cx="543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XML Schema can be used as a contract between the sender and the receiver: "Here's the information we agree to exchange, and the format of the information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era L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4" descr="face"/>
          <p:cNvPicPr/>
          <p:nvPr/>
        </p:nvPicPr>
        <p:blipFill>
          <a:blip r:embed="rId1"/>
          <a:stretch/>
        </p:blipFill>
        <p:spPr>
          <a:xfrm>
            <a:off x="19080" y="3833640"/>
            <a:ext cx="1455840" cy="1265400"/>
          </a:xfrm>
          <a:prstGeom prst="rect">
            <a:avLst/>
          </a:prstGeom>
          <a:ln w="0">
            <a:noFill/>
          </a:ln>
        </p:spPr>
      </p:pic>
      <p:sp>
        <p:nvSpPr>
          <p:cNvPr id="512" name="AutoShape 5"/>
          <p:cNvSpPr/>
          <p:nvPr/>
        </p:nvSpPr>
        <p:spPr>
          <a:xfrm>
            <a:off x="1071720" y="2063880"/>
            <a:ext cx="3379680" cy="1747800"/>
          </a:xfrm>
          <a:prstGeom prst="wedgeRoundRectCallout">
            <a:avLst>
              <a:gd name="adj1" fmla="val -46337"/>
              <a:gd name="adj2" fmla="val 7106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mera comes with a 37-155mm zoom lens that has an f-stop of 4.8-11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Picture 6" descr="face"/>
          <p:cNvPicPr/>
          <p:nvPr/>
        </p:nvPicPr>
        <p:blipFill>
          <a:blip r:embed="rId2"/>
          <a:stretch/>
        </p:blipFill>
        <p:spPr>
          <a:xfrm>
            <a:off x="7664400" y="3670200"/>
            <a:ext cx="1455840" cy="1265400"/>
          </a:xfrm>
          <a:prstGeom prst="rect">
            <a:avLst/>
          </a:prstGeom>
          <a:ln w="0">
            <a:noFill/>
          </a:ln>
        </p:spPr>
      </p:pic>
      <p:sp>
        <p:nvSpPr>
          <p:cNvPr id="514" name="AutoShape 7"/>
          <p:cNvSpPr/>
          <p:nvPr/>
        </p:nvSpPr>
        <p:spPr>
          <a:xfrm>
            <a:off x="4624560" y="2044800"/>
            <a:ext cx="3379680" cy="1747800"/>
          </a:xfrm>
          <a:prstGeom prst="wedgeRoundRectCallout">
            <a:avLst>
              <a:gd name="adj1" fmla="val 48356"/>
              <a:gd name="adj2" fmla="val 6798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mera comes with a lens that has an f-stop of 4.8-11.7 and i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-155mm zo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s Order Really Mat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4"/>
          <p:cNvSpPr/>
          <p:nvPr/>
        </p:nvSpPr>
        <p:spPr>
          <a:xfrm>
            <a:off x="357480" y="1622520"/>
            <a:ext cx="8631000" cy="2043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Camera-Lens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f-stop&gt;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8-11.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/f-stop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focal-length&gt;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7-155mm zo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/focal-length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/Camera-Lens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347760" y="4532400"/>
            <a:ext cx="8631000" cy="2043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Camera-Lens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focal-length&gt;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7-155mm zo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/focal-length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f-stop&gt;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8-11.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/f-stop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/Camera-Lens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6"/>
          <p:cNvSpPr/>
          <p:nvPr/>
        </p:nvSpPr>
        <p:spPr>
          <a:xfrm>
            <a:off x="3243600" y="387360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- versus 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s Order Really Mat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2104920" y="2887560"/>
            <a:ext cx="4613400" cy="82548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ly not. To be user-friendly, allow both or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y 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Schema 1.0 was pretty controlling in terms of the order of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Schema 1.1 is much less controlling; schemas can be designed to allow the data to be arranged in any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Fe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3799080" y="2728800"/>
            <a:ext cx="1398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Times New Roman"/>
              </a:rPr>
              <a:t>all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6"/>
          <p:cNvSpPr/>
          <p:nvPr/>
        </p:nvSpPr>
        <p:spPr>
          <a:xfrm>
            <a:off x="1378080" y="5576760"/>
            <a:ext cx="653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"all" is found in XML Schema 1.0, but it did not permit elements with maxOccurs of 2 or more. XML Schema 1.1 does not have this restri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4"/>
          <p:cNvSpPr/>
          <p:nvPr/>
        </p:nvSpPr>
        <p:spPr>
          <a:xfrm>
            <a:off x="322200" y="550800"/>
            <a:ext cx="859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able a user-friendly arrangement of inform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using "all"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5"/>
          <p:cNvSpPr/>
          <p:nvPr/>
        </p:nvSpPr>
        <p:spPr>
          <a:xfrm>
            <a:off x="457200" y="2625840"/>
            <a:ext cx="8229600" cy="31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information to be expressed in any order is accomplished in XML Schema 1.1 using the "all" element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3200"/>
            </a:b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provide the f-stop and the focal-length of the camera lens in an order that is useful to you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've examined seven new features in XML Schema 1.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bility to express policies and rules using asser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bility to express conditional content using altern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bility to define schema-wid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bility to facilitate change using open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bility to customize schemas that ordinarily are unchangeable, using override and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bility to disseminate information within a document using inheritabl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bility to present the information in a user-friendly order, using the "all"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4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Other New Fea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any names of "subway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different ways of saying "I took the subway into town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Boston we say "I took the T into town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D.C. they say "I took the metro into town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London they say "I took the tube into town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hicago they say "I took the L into town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12120" cy="12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Schema 1.1 enables you to express "T can be substituted for either metro or tube or L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Oval 5"/>
          <p:cNvSpPr/>
          <p:nvPr/>
        </p:nvSpPr>
        <p:spPr>
          <a:xfrm>
            <a:off x="4222800" y="52992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Oval 7"/>
          <p:cNvSpPr/>
          <p:nvPr/>
        </p:nvSpPr>
        <p:spPr>
          <a:xfrm>
            <a:off x="2620800" y="3255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Oval 8"/>
          <p:cNvSpPr/>
          <p:nvPr/>
        </p:nvSpPr>
        <p:spPr>
          <a:xfrm>
            <a:off x="5607000" y="31561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Line 9"/>
          <p:cNvSpPr/>
          <p:nvPr/>
        </p:nvSpPr>
        <p:spPr>
          <a:xfrm flipH="1" flipV="1">
            <a:off x="3254040" y="4168440"/>
            <a:ext cx="1165320" cy="11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10"/>
          <p:cNvSpPr/>
          <p:nvPr/>
        </p:nvSpPr>
        <p:spPr>
          <a:xfrm flipV="1">
            <a:off x="4930920" y="4041360"/>
            <a:ext cx="912600" cy="12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11"/>
          <p:cNvSpPr/>
          <p:nvPr/>
        </p:nvSpPr>
        <p:spPr>
          <a:xfrm>
            <a:off x="2432160" y="4681440"/>
            <a:ext cx="15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ubstitutable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12"/>
          <p:cNvSpPr/>
          <p:nvPr/>
        </p:nvSpPr>
        <p:spPr>
          <a:xfrm>
            <a:off x="5203800" y="4703760"/>
            <a:ext cx="15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ubstitutable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Oval 13"/>
          <p:cNvSpPr/>
          <p:nvPr/>
        </p:nvSpPr>
        <p:spPr>
          <a:xfrm>
            <a:off x="4208400" y="314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14"/>
          <p:cNvSpPr/>
          <p:nvPr/>
        </p:nvSpPr>
        <p:spPr>
          <a:xfrm flipV="1">
            <a:off x="4670280" y="4114800"/>
            <a:ext cx="0" cy="114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15"/>
          <p:cNvSpPr/>
          <p:nvPr/>
        </p:nvSpPr>
        <p:spPr>
          <a:xfrm>
            <a:off x="3903840" y="4309920"/>
            <a:ext cx="15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ubstitutable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1T19:00:49Z</dcterms:created>
  <dc:creator>Roger L. Costello</dc:creator>
  <dc:description>Copyright 2009. The MITRE Corporation. All Rights Reserved.</dc:description>
  <cp:keywords>XML Schema 1.1 tutorial XML Schema 1.1 tutorial</cp:keywords>
  <dc:language>en-US</dc:language>
  <cp:lastModifiedBy>Costello, Roger L.</cp:lastModifiedBy>
  <dcterms:modified xsi:type="dcterms:W3CDTF">2012-12-14T20:07:30Z</dcterms:modified>
  <cp:revision>1334</cp:revision>
  <dc:subject/>
  <dc:title>XML Schema 1.1 for Managers</dc:title>
</cp:coreProperties>
</file>